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12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30.jpeg" ContentType="image/jpe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46AE5-1D57-4626-8F8C-CFB672F116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0A7AD-E1B4-4D0F-A302-4589A53B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EEECC6-A62F-4DFD-82C7-CD35895D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F4038E-956D-4E7A-9FEC-C9D68239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71E1EE-8F29-479F-ADFD-32093B12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296286-949D-4FAA-B093-650430B3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E0EA91-0C2D-4B22-A755-104DF217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6B8217-0604-474D-9DC0-5D94F1D2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5268F7-4063-45D3-B751-D90CF174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CB3689-7D1D-4CDB-BBCB-7520EDD4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383D66-1A80-44BF-AE09-09108A5852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D92E1-DA83-4212-A1A7-6729440217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F8856-3EA9-46EC-B45A-D4CEC416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3BC48-FA70-416A-8F57-06EB6B1E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F7B90-746C-47DF-85EB-282C0B59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7A8DC-164D-4740-ADDB-24D36651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B8543-318E-4450-A03E-B08430D4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FCCD8-E26A-4662-81C1-6C4C88BF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253AC-2EAA-4CD3-9DBD-6C8AA20E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49E74-57D4-4684-BA90-64865E95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85E94-821D-44D9-9E9D-2A23BCC2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636B1-B6B6-44BD-A62E-A32B180E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663C1-FB8B-41C7-9A86-5A9E9696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F5F06-FCB2-4450-8AD0-65E734F3D9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44073-496D-46E6-9FBF-AEDFFE813B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0FF4F9-C40B-4FAD-A426-EED61F88BC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C4C97C-3153-4CD1-86B1-3E078830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D24680-4767-4BCD-9984-9A24E86B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285B7D-88C3-45E7-9EBF-692C19DC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9D107C-D464-420A-8542-75C76017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F7164D-A840-4EFE-85E5-1CF2ADCE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91A9BB-7E79-4651-85CE-AFDDDA09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18D1CC-6BFB-4103-B404-0C99BCE7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95E226-9CAB-41E6-BDE1-D24817CC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0EEC7-3309-48F9-A3A5-2293CEA0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138CA5-A662-4274-B6A2-A18E86A6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596CC9-8663-419A-936A-865970E2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36F7D1-89A9-460F-8728-FD4BD48168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CF22F8-8512-4D9A-9A6F-B7F6C5F892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1A87D-1B06-49D3-97E4-043C42E3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545FC-3705-4805-B39F-960EC0C6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DE9C3-400E-43DC-BDE8-35E53D18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18E75-2E44-4CCD-84A9-112245E3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E402A-11C3-4F49-BD9C-20E61B9F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55449-735E-4585-97BC-D8C197D0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50D01-69B6-43F8-9598-80D8DD12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5B56C-14DA-40F1-AEE3-C5D52DDE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1DDCA7-F202-42D5-A9BF-C45E3301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A9143-055A-4CA1-AFC3-EEE523CC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73694-0DFB-4448-BAD8-3F379C1E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1137AA-7358-4693-A766-6A57856CC2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FF326-4022-448B-881A-2A277DE9AF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D27CD-8A9C-4DC6-9285-AFC1537C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78725-E88B-4361-B7B8-C7C3C33C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16460-D91B-44D2-832E-31D2D70A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0B6DF-5713-4169-9DD5-6CEF6754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D77A5-3D13-405B-BC1F-ECCC629D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36764-2050-4C3D-A2B2-92EE73C3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53FFC-EC31-4BF3-BFFA-7D4F36C7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B68D3-914F-41E3-8934-9FBBBCC0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2B950-2253-4D9F-8FBC-2B0054BE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67E8F-0A71-4F19-B00E-60CB4E12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8C4E7-7D95-4CCD-9200-43CC2916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2CA08-F4BD-4E0A-AF3E-AE1C243D26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592D1-6B77-43A5-AF17-1C61BD83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B90F6-56EB-4616-8FC4-5F2A2427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0A416-FB3D-49B8-851D-95019497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71525-BB8D-4D5C-AD21-515FADA4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EEE17-BBA0-45D5-B019-C6FF8C34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693C2-E22D-4519-86BD-6FCB7E80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9BAAF-D53B-42D4-8861-E5168D93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B0593-62F0-4033-8C42-C45AF05B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D16C2-618E-4E30-89C0-79750A8E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E1F7D-FA44-44BE-8473-6E8F96E3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EE301-76BA-4262-90B3-C788B352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7CF9F-43FB-4CF0-B234-0D3EB232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5AA43-B39A-4695-997B-9A1E9366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E9F8B-7537-4A17-A570-D4E0C053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3F081-4F57-4AD8-87EF-F1A7A798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75791-36E4-46F9-9957-EABCF45A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98766-AC5A-4A19-92E9-C13C6190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6D580-78DD-4705-AC23-5652EC99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98511-F5A8-4471-A624-F9241F2F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2DC1A-F204-4DF0-8478-139D0566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E9D85-E99F-4222-9047-6C56A28F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42AC2-8BCE-4F54-8737-9AFE7935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407DA-F381-4A30-9FAC-1384262F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B5442-37DE-4A2C-A196-7A5012FA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267EF-0082-49A2-A71D-813C02F2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83807-EFEB-4DD4-9BF9-CFB36280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34793-6CED-43DF-B28D-91FB58B8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661BB-31A0-4538-94E6-16E502BE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789CA-5310-48F8-891F-444E3FD4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D6991-1E09-49A6-8BA6-7CF54074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124BA-2AD5-44B6-B168-9232FD48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84D6E-B678-4DD9-9C48-3E65A597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5E12D-A449-4175-9685-5970EF7D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4BA22-1878-4728-B8C4-893AC988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5033A-1131-4BB9-B190-5F61D55A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ABAC6-FC23-4D95-B87C-0B5567A0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51CA6-B89C-432E-8046-89C084EA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E8CB1-9343-4218-AB82-8A95AD97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EE2BC-9DA0-4CB8-950A-A36E8AB2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6CD6E-FF1E-4FAE-B533-26E24025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649AE-AACE-4709-A59D-B936C50E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D44A16-EFEE-46DE-9222-33952913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654CC-2931-451A-953F-B5CE59FB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367A0-0A2F-41F6-A9D6-8A547A5F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E5C55-7D64-4374-932F-3CADA47B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AEBD1-D81A-4790-BA00-B1C3E275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CC6879-572B-42BC-8D2F-E5D1452E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04B92-D6C9-47D1-86CF-3C813C68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87CBC-C81A-4A3C-9C55-CFD069BC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360457-BECE-4684-9C76-4B4240BD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65D6A-99EF-418D-82E7-3EE143F0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1AE5D-0C87-481A-8C6F-D38BFB32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F88E4-8738-4B25-8460-85F72E86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3D493C-95B3-4D80-BAB5-B022A820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2CF38C-8CFF-438B-B778-4B06A133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F6BB72-FEE8-4174-A937-C6619521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8A9BBF-C78E-4927-8740-BE419AFD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57520E-5F92-40C6-9053-CA2711F3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69AC56-DA0D-46D3-BE0A-27992B97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C9668-236F-40A2-9933-905A21B5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2BCE1-716C-42C7-86DA-8F2FF563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5B510F-FE5B-48F2-9868-8552D81A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C192F2-B0D5-4D4E-9AB1-96911E93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63277E-4B5D-4368-906B-97CB47A2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F15189-4C49-470D-9DD7-9F4DF40D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8217F1-F010-4C70-BC31-26BCF708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E1D634-AE96-4997-B1DD-D79EB0DF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4A997E-5025-4E85-8ADC-F30F6D5D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7F2A58-F06E-41F6-BA80-57FF488A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7067E7-F7C1-490A-B4CC-2CBF643F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AB195-95D9-47DB-8513-67095218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91230D-0DFC-4F5B-8EB5-3F85D49D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1AAED4-BA0E-433A-BFB7-3DD71BDA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F0A8ED-46BC-4D78-AC29-8A3D0A22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389249-8F68-47A6-B73D-6BCDA840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E70F94-E3A1-49F4-AF2A-38EBAB84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2D3317-CE56-4E1C-8839-9CC51B97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7C16F1-CCF3-4076-9A3F-50D463DA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D83FA9-1BFE-4D70-882B-1A31B792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832CB7-98FC-4245-972A-3A59EAED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9D8234-788F-43FF-AA2B-7B9DE5E2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71D0A-BEA9-45F8-9349-0558EED6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A7E4A9-671B-49C7-80B5-7B3A0398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E5804D-5505-4E1B-BDE9-1999C65E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A9120F-215B-478E-9586-647BDB34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15CD85-D9A0-457D-98C9-47CF4D58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9EFCA6-FF43-4494-83EF-B8926E08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53E527-C73C-4423-9FD5-64D2D8DA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E0CD11-3B96-48EB-91D3-556A4F52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3DE662-B605-4F96-8AA4-89859A8D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67662E-81A4-4BC3-8919-F0FA3E25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B0784B-9896-4107-8A7E-379CF79A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A8493-F18F-4609-B5A3-53C4E0AA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C68133-92DE-4497-B935-3BF400A8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3AE4D2-F3FF-4A97-9514-5A872061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81088C-7A33-48A5-BB9C-6C3EBBB4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B89573-6830-4669-A137-EEDA4D7C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E731C0-0DD1-4321-93F9-7DCD51D9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1E5F6E-1504-4A38-98B4-F9A6CFAE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43EF75-9C40-4A6C-80F4-0DE5373B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25A4D1-3DD0-4F5D-9734-C2BB04D2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0260E5-BC11-489E-828F-469C3699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D5EA2B-53B3-4B44-A8D7-AE367ED1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D4007A-9E09-4121-A595-1AA2C724FD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A9144C-20EC-4CE6-BD8A-6AB65EFB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5169FE-E47C-4791-90F4-D82C4B3D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127061-9B1A-493A-8B6B-05AB9A59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2C1686-3ED0-4A12-8DA2-3117CAD0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FBCD20-6B3F-447B-8091-0E237C69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1584E5-2DC7-4879-832F-3D0B8EBB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A43887-9C32-49AB-AFDE-BE8F3BED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152754-C9FE-4562-890C-1BF9FADE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DA8CDA-76A5-4F19-8ECF-D8736814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AEE3F1-E2B3-4FF7-8A9F-A422DE51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B3ECD3-1E61-4793-B343-63E54870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569EF7-0170-4EB4-B132-A5DBE967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29DE92-2A17-467D-B9DA-91E9602B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699F8D-3A08-4472-93F0-FE6C93F9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CB5AC1-16D5-43A9-BB0A-9C936B93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6A6540-09DF-410F-8D91-8DFFDB4C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F9E714-BC90-4AEE-A99F-13A23E30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005D6A-58C5-4551-AE98-BEBC6600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91FA69-B16C-4485-B5FB-E4515572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F881DE-A77E-4753-8EB5-F8404897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EA03AD-4127-4BD9-93AA-C5D9E04F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85E44E-F0CB-49CC-8E37-D7DAC600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579327-0F80-4651-9FB6-58BD712C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13FF58-C997-470E-A849-DE67E9E1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EC05E3-754F-443B-866B-0FDE6881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46149A-FB62-4CDF-A45F-F9130590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3220C5-620D-4457-A62A-5033CC01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7FBDE9-A9B5-45DE-B0EB-FCBBCD0C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998FBE-9ACE-4199-BC91-89800496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AC8CDE-EEC4-4753-96B2-AF5C3436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6E8212-EDFD-4E7D-98EF-B380CC56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1FBD45-ACBA-42E3-9ABE-70C8AFAB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A7409E-830D-47E1-8E62-D92B1069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9EDE1A-D634-41B7-807E-C30E54D1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DFB7C0-8B05-43DD-AFE0-D3199692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6CBAC7-84FA-4A25-9BAE-54E22FCD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571D9D-DEEA-412B-B66A-2EC6A6C8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393CA5-4077-47B0-A706-ECE76A15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08DA6A-383D-4543-BA39-2337199C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F4FC95-9038-4C7F-AEB6-5348ED97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B062D8-D967-46B9-9096-DA30FAFD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0F45E0-5806-44A7-B1AF-B01D21B3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D091CE-F415-4EEB-8FA3-041EECDC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624B1-E5E0-4DC4-B069-C5B92A4C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492F05-7A26-469D-8E73-FFA1155E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ED626C-3FC2-4C02-9F55-3F102B7E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60D4C4-C598-4097-8751-E1F8B4B5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DCAA3E-DB0C-4A7E-84E2-36E220E5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948814-59C7-4364-9916-0251052B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C4A52A-17C6-40FE-A289-177D831D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1855BB-449C-4CCD-9EC2-527CF5BDB2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6AE7B-D340-492A-9B96-93AFE8FA8B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F0E93-DAF4-4973-B096-9E5F3858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E842F-2B05-489B-9CC3-B7D61B9D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913CA-025A-40C9-A88A-EA8D0768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7E495-292A-46EA-8AFE-694FFDDB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BED93-2B4F-4214-9F7C-8B3C2BD8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9418C-DBB0-40F4-8010-F1080D32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3F768-8A95-4F5E-9D79-AA8ECE52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B9AE2-24D8-43F3-A2BB-73330D30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DA110-D474-4CDB-B4DD-DB21C234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118F3-0C61-4409-B673-A04D4E84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15258-457D-456C-BC07-DC8FFF57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ECF7-3ADB-4BA3-9B96-10D8908EF4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6C54CF-A500-4CE8-84C0-48DACCAE59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99A67-D276-4EC2-899C-8622B387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7A703D-EF17-499E-B889-D2C908DB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754FCA-A1AE-4DBD-BA5A-2B90429B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BEDA0C-43D0-499F-88E0-9CDD5AC2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B2F75F-B335-4D11-8173-7B65E054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0352B0-E1D8-407A-A649-C61F333D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7E2DD3-E061-4BFC-8E46-D65820B0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3720F4-3630-4B66-BC1A-0F485440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337F66-A81B-4F78-B416-8F87165A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A1274-CF2E-4B29-8599-7173BE79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F3CA90-5A41-4B46-997C-CA82D18A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B9023-94D7-4456-8A78-7CEAF938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F3A606-B7FC-4B80-8099-111DEED273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9693A5-FFB3-46AA-ACDC-C22E7C3897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2D2DF9-366A-447C-BC2D-E0EE3D95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B47138-C965-493A-807E-ADD29E01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FFC005-4DD7-494E-89DB-BC3F4CDE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706AC9-B1A7-466A-B5FB-0D107763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14AD79-BEAF-4C98-A4A8-B98ADFA1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3372E0-E8FF-4835-AD39-47A7C77B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6D226A-8476-409B-8AEC-19FCE612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E4D06E-B356-40CD-88F9-3DEEC66D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8230-561C-4336-BD79-31D34871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870095-1BD6-4866-9883-8E9DE062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B6EDF2-0CED-4EDE-AD3C-4EAB8F21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E9E9EE-983B-4F51-8487-7F3C897B64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2B9A9-5EAD-45F1-8406-76BE02FC9C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CF3A5-5B5E-4002-82AA-4147217C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32CCF-D315-498C-9E54-BC9E4C62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AC1F7-B95B-4458-A191-0611BD5C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FEA91-5FEF-4080-8450-5ECED0FE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4271A-9495-4C81-B1F0-7C6E1790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375DD-29F0-493E-A8EF-1F502DC5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B7AFC-D632-4837-B25B-5DD6F859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36B37-2D28-47AE-8E21-09654414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10ACC-96EA-4D93-9C00-77F3E712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16AA0-7FEB-4901-B421-0523E8EF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A64C7-8C0B-46E6-8675-C172A5D1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19D98-6E1F-4423-B17D-E4DB6D4AD7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15ADE8-E490-4AE4-968F-F7FD46EF5F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87F392-B295-4C19-9068-6A435B74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32ED57-51DE-468B-A32D-17AD8F48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102C66-092B-4139-AC8A-EE1AFB9D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85A3C7-CFE5-4931-8990-096B6E33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257D6-49A1-4EC2-A679-92C65356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2817D9-D37E-4102-AA06-BAAE44AC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CA4A24-020A-4F58-A673-EFAFE2E2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E53DD5-7BF0-4B3B-9B23-9BD8573A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276295-7CDC-40E9-961E-574FB006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5AD809-72D9-4EA6-B601-EE6A7C10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406C9E-1F01-4DEA-A934-0DA4E541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70283C-99AB-4D82-B9D2-66530972F1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46B9D3-0098-44F8-A3CE-621C023699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5C8410-D189-409A-82B3-23613532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7CE0AC-9928-4B92-9C9E-07994BEA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F28C-EC89-4163-A65F-A641B62D05A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EB2E-61F7-43F3-A444-CA8A35B3B10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2C65-1529-4428-8D62-9389340F706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E677-F993-434F-B51A-C572BF81B3E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D8F8-1805-47AF-BA3E-812D9749F48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E816-58FD-4220-AE01-98F7E7073C0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BECA-14D0-45CF-8C39-4F64E66B9A8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EF55-B9E9-49A1-97BE-B79F1FEAB09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6E2D-5498-4E79-AFB8-09B2DFF312D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CC09-51B6-4DF6-8DF7-82B4AF2A7CC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6615-4292-49D9-BC71-228287127A2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CE4A-BF44-4AAF-84CC-BE20C5FE86E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09E1-0B45-44A8-9E62-027154F0AB9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7CF0-7AA9-4383-8B0E-8237B4235CF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D5FC-26B0-4BFC-AAF2-2222DA0FD96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C9F6-92EF-4C1B-BE61-7F34F4DADCD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DE17-12AB-4D5D-BC5E-9B6202835EE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996C-D68B-4E5F-B383-B7EE58CCA33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DA1F-E14B-4FAD-98D2-4FFD98AFADE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AB32-505E-40BB-9BC6-E7DE706913C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2264-79DE-44C8-A5CC-3BD6630820B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2E7E-1904-43AF-8936-10399FAC674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B15B-491F-4A75-8098-012BC97DFE1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BD3B-38FE-4877-8A3A-08794562CCA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9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9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12.png"/><Relationship Id="rId25" Type="http://schemas.openxmlformats.org/officeDocument/2006/relationships/image" Target="../media/image14.png"/><Relationship Id="rId26" Type="http://schemas.openxmlformats.org/officeDocument/2006/relationships/image" Target="../media/image12.png"/><Relationship Id="rId27" Type="http://schemas.openxmlformats.org/officeDocument/2006/relationships/image" Target="../media/image15.png"/><Relationship Id="rId28" Type="http://schemas.openxmlformats.org/officeDocument/2006/relationships/image" Target="../media/image12.png"/><Relationship Id="rId29" Type="http://schemas.openxmlformats.org/officeDocument/2006/relationships/image" Target="../media/image16.png"/><Relationship Id="rId30" Type="http://schemas.openxmlformats.org/officeDocument/2006/relationships/image" Target="../media/image12.png"/><Relationship Id="rId3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2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5167080" cy="360"/>
            <a:chOff x="2284560" y="2448000"/>
            <a:chExt cx="516708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5167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516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5"/>
          <p:cNvSpPr/>
          <p:nvPr/>
        </p:nvSpPr>
        <p:spPr>
          <a:xfrm>
            <a:off x="1655640" y="2716200"/>
            <a:ext cx="55908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6"/>
          <p:cNvSpPr/>
          <p:nvPr/>
        </p:nvSpPr>
        <p:spPr>
          <a:xfrm>
            <a:off x="1138320" y="2666880"/>
            <a:ext cx="725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 时、分、秒 和 测 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1162080" y="1744560"/>
            <a:ext cx="69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复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Picture 18" descr=""/>
          <p:cNvPicPr/>
          <p:nvPr/>
        </p:nvPicPr>
        <p:blipFill>
          <a:blip r:embed="rId1"/>
          <a:stretch/>
        </p:blipFill>
        <p:spPr>
          <a:xfrm>
            <a:off x="955800" y="860400"/>
            <a:ext cx="2535120" cy="201924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19" descr="09"/>
          <p:cNvPicPr/>
          <p:nvPr/>
        </p:nvPicPr>
        <p:blipFill>
          <a:blip r:embed="rId2"/>
          <a:stretch/>
        </p:blipFill>
        <p:spPr>
          <a:xfrm>
            <a:off x="4543560" y="700200"/>
            <a:ext cx="2882880" cy="2338200"/>
          </a:xfrm>
          <a:prstGeom prst="rect">
            <a:avLst/>
          </a:prstGeom>
          <a:ln w="0">
            <a:noFill/>
          </a:ln>
        </p:spPr>
      </p:pic>
      <p:sp>
        <p:nvSpPr>
          <p:cNvPr id="1208" name="Text Box 6"/>
          <p:cNvSpPr/>
          <p:nvPr/>
        </p:nvSpPr>
        <p:spPr>
          <a:xfrm>
            <a:off x="709560" y="32004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右图上画出飞机的起飞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14" descr="110"/>
          <p:cNvPicPr/>
          <p:nvPr/>
        </p:nvPicPr>
        <p:blipFill>
          <a:blip r:embed="rId3"/>
          <a:stretch/>
        </p:blipFill>
        <p:spPr>
          <a:xfrm>
            <a:off x="976320" y="3749760"/>
            <a:ext cx="3567240" cy="2158920"/>
          </a:xfrm>
          <a:prstGeom prst="rect">
            <a:avLst/>
          </a:prstGeom>
          <a:ln w="0">
            <a:noFill/>
          </a:ln>
        </p:spPr>
      </p:pic>
      <p:grpSp>
        <p:nvGrpSpPr>
          <p:cNvPr id="1210" name="组合 1"/>
          <p:cNvGrpSpPr/>
          <p:nvPr/>
        </p:nvGrpSpPr>
        <p:grpSpPr>
          <a:xfrm>
            <a:off x="5489640" y="3941640"/>
            <a:ext cx="1386000" cy="1441440"/>
            <a:chOff x="5489640" y="3941640"/>
            <a:chExt cx="1386000" cy="1441440"/>
          </a:xfrm>
        </p:grpSpPr>
        <p:pic>
          <p:nvPicPr>
            <p:cNvPr id="1211" name="Picture 15" descr="111"/>
            <p:cNvPicPr/>
            <p:nvPr/>
          </p:nvPicPr>
          <p:blipFill>
            <a:blip r:embed="rId4"/>
            <a:stretch/>
          </p:blipFill>
          <p:spPr>
            <a:xfrm>
              <a:off x="5489640" y="3941640"/>
              <a:ext cx="138600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Line 16"/>
            <p:cNvSpPr/>
            <p:nvPr/>
          </p:nvSpPr>
          <p:spPr>
            <a:xfrm flipV="1">
              <a:off x="6194160" y="4321080"/>
              <a:ext cx="360" cy="360000"/>
            </a:xfrm>
            <a:prstGeom prst="line">
              <a:avLst/>
            </a:prstGeom>
            <a:ln w="126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17"/>
            <p:cNvSpPr/>
            <p:nvPr/>
          </p:nvSpPr>
          <p:spPr>
            <a:xfrm flipH="1" flipV="1">
              <a:off x="5983200" y="4552920"/>
              <a:ext cx="215640" cy="14256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组合 2"/>
          <p:cNvGrpSpPr/>
          <p:nvPr/>
        </p:nvGrpSpPr>
        <p:grpSpPr>
          <a:xfrm>
            <a:off x="57240" y="117360"/>
            <a:ext cx="4608360" cy="525600"/>
            <a:chOff x="57240" y="117360"/>
            <a:chExt cx="4608360" cy="525600"/>
          </a:xfrm>
        </p:grpSpPr>
        <p:pic>
          <p:nvPicPr>
            <p:cNvPr id="1215" name="圆角矩形 8" descr=""/>
            <p:cNvPicPr/>
            <p:nvPr/>
          </p:nvPicPr>
          <p:blipFill>
            <a:blip r:embed="rId5"/>
            <a:stretch/>
          </p:blipFill>
          <p:spPr>
            <a:xfrm>
              <a:off x="282960" y="117360"/>
              <a:ext cx="43826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6" name="组合 4"/>
            <p:cNvGrpSpPr/>
            <p:nvPr/>
          </p:nvGrpSpPr>
          <p:grpSpPr>
            <a:xfrm>
              <a:off x="57240" y="213120"/>
              <a:ext cx="615240" cy="272160"/>
              <a:chOff x="57240" y="213120"/>
              <a:chExt cx="615240" cy="272160"/>
            </a:xfrm>
          </p:grpSpPr>
          <p:sp>
            <p:nvSpPr>
              <p:cNvPr id="1217" name="椭圆 10"/>
              <p:cNvSpPr/>
              <p:nvPr/>
            </p:nvSpPr>
            <p:spPr>
              <a:xfrm rot="16200000">
                <a:off x="329400" y="367200"/>
                <a:ext cx="103680" cy="13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8" name="椭圆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438480" y="307080"/>
                <a:ext cx="234000" cy="8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9" name="椭圆 12"/>
              <p:cNvSpPr/>
              <p:nvPr/>
            </p:nvSpPr>
            <p:spPr>
              <a:xfrm rot="16200000">
                <a:off x="329400" y="234000"/>
                <a:ext cx="103680" cy="13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0" name="椭圆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438480" y="223920"/>
                <a:ext cx="234000" cy="8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1" name="圆角矩形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57240" y="31896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2" name="圆角矩形 15" descr=""/>
              <p:cNvPicPr/>
              <p:nvPr/>
            </p:nvPicPr>
            <p:blipFill>
              <a:blip r:embed="rId9"/>
              <a:stretch/>
            </p:blipFill>
            <p:spPr>
              <a:xfrm>
                <a:off x="57240" y="29808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3" name="圆角矩形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57240" y="23364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4" name="圆角矩形 17" descr=""/>
              <p:cNvPicPr/>
              <p:nvPr/>
            </p:nvPicPr>
            <p:blipFill>
              <a:blip r:embed="rId11"/>
              <a:stretch/>
            </p:blipFill>
            <p:spPr>
              <a:xfrm>
                <a:off x="57240" y="21312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18" descr=""/>
          <p:cNvPicPr/>
          <p:nvPr/>
        </p:nvPicPr>
        <p:blipFill>
          <a:blip r:embed="rId1"/>
          <a:stretch/>
        </p:blipFill>
        <p:spPr>
          <a:xfrm>
            <a:off x="781200" y="955800"/>
            <a:ext cx="2535120" cy="2019240"/>
          </a:xfrm>
          <a:prstGeom prst="rect">
            <a:avLst/>
          </a:prstGeom>
          <a:ln w="0">
            <a:noFill/>
          </a:ln>
        </p:spPr>
      </p:pic>
      <p:pic>
        <p:nvPicPr>
          <p:cNvPr id="1226" name="Picture 19" descr="09"/>
          <p:cNvPicPr/>
          <p:nvPr/>
        </p:nvPicPr>
        <p:blipFill>
          <a:blip r:embed="rId2"/>
          <a:stretch/>
        </p:blipFill>
        <p:spPr>
          <a:xfrm>
            <a:off x="4460760" y="870120"/>
            <a:ext cx="2882880" cy="2338200"/>
          </a:xfrm>
          <a:prstGeom prst="rect">
            <a:avLst/>
          </a:prstGeom>
          <a:ln w="0">
            <a:noFill/>
          </a:ln>
        </p:spPr>
      </p:pic>
      <p:sp>
        <p:nvSpPr>
          <p:cNvPr id="1227" name="Text Box 6"/>
          <p:cNvSpPr/>
          <p:nvPr/>
        </p:nvSpPr>
        <p:spPr>
          <a:xfrm>
            <a:off x="557280" y="339732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一架飞机先从北京飞到广州，再飞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9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千米到三亚，一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5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飞行了多少千米？比从北京直接飞到三亚多飞多少千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组合 1"/>
          <p:cNvGrpSpPr/>
          <p:nvPr/>
        </p:nvGrpSpPr>
        <p:grpSpPr>
          <a:xfrm>
            <a:off x="1992240" y="4500720"/>
            <a:ext cx="4770000" cy="1361160"/>
            <a:chOff x="1992240" y="4500720"/>
            <a:chExt cx="4770000" cy="1361160"/>
          </a:xfrm>
        </p:grpSpPr>
        <p:sp>
          <p:nvSpPr>
            <p:cNvPr id="1229" name="Rectangle 14"/>
            <p:cNvSpPr/>
            <p:nvPr/>
          </p:nvSpPr>
          <p:spPr>
            <a:xfrm>
              <a:off x="2251080" y="4511880"/>
              <a:ext cx="4511160" cy="13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90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90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千米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54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             （千米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15"/>
            <p:cNvSpPr/>
            <p:nvPr/>
          </p:nvSpPr>
          <p:spPr>
            <a:xfrm>
              <a:off x="3939480" y="4567320"/>
              <a:ext cx="756000" cy="360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16"/>
            <p:cNvSpPr/>
            <p:nvPr/>
          </p:nvSpPr>
          <p:spPr>
            <a:xfrm>
              <a:off x="3933360" y="5096520"/>
              <a:ext cx="756000" cy="36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7"/>
            <p:cNvSpPr/>
            <p:nvPr/>
          </p:nvSpPr>
          <p:spPr>
            <a:xfrm>
              <a:off x="1999800" y="5090040"/>
              <a:ext cx="756000" cy="36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Text Box 18"/>
            <p:cNvSpPr/>
            <p:nvPr/>
          </p:nvSpPr>
          <p:spPr>
            <a:xfrm>
              <a:off x="3935160" y="450072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259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Text Box 19"/>
            <p:cNvSpPr/>
            <p:nvPr/>
          </p:nvSpPr>
          <p:spPr>
            <a:xfrm>
              <a:off x="1992240" y="501372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259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Text Box 20"/>
            <p:cNvSpPr/>
            <p:nvPr/>
          </p:nvSpPr>
          <p:spPr>
            <a:xfrm>
              <a:off x="4069800" y="502956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5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Rectangle 24"/>
          <p:cNvSpPr/>
          <p:nvPr/>
        </p:nvSpPr>
        <p:spPr>
          <a:xfrm>
            <a:off x="1084320" y="566244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提出一个用加法或减法计算的问题并解答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7" name="图片 4" descr="O]C$]}5]OF3R0IVBJ8V8[NC"/>
          <p:cNvPicPr/>
          <p:nvPr/>
        </p:nvPicPr>
        <p:blipFill>
          <a:blip r:embed="rId3"/>
          <a:stretch/>
        </p:blipFill>
        <p:spPr>
          <a:xfrm>
            <a:off x="6762600" y="123840"/>
            <a:ext cx="974880" cy="746280"/>
          </a:xfrm>
          <a:prstGeom prst="rect">
            <a:avLst/>
          </a:prstGeom>
          <a:ln w="0">
            <a:noFill/>
          </a:ln>
        </p:spPr>
      </p:pic>
      <p:grpSp>
        <p:nvGrpSpPr>
          <p:cNvPr id="1238" name="组合 2"/>
          <p:cNvGrpSpPr/>
          <p:nvPr/>
        </p:nvGrpSpPr>
        <p:grpSpPr>
          <a:xfrm>
            <a:off x="57240" y="117360"/>
            <a:ext cx="4608360" cy="525600"/>
            <a:chOff x="57240" y="117360"/>
            <a:chExt cx="4608360" cy="525600"/>
          </a:xfrm>
        </p:grpSpPr>
        <p:pic>
          <p:nvPicPr>
            <p:cNvPr id="1239" name="圆角矩形 8" descr=""/>
            <p:cNvPicPr/>
            <p:nvPr/>
          </p:nvPicPr>
          <p:blipFill>
            <a:blip r:embed="rId4"/>
            <a:stretch/>
          </p:blipFill>
          <p:spPr>
            <a:xfrm>
              <a:off x="282960" y="117360"/>
              <a:ext cx="43826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0" name="组合 4"/>
            <p:cNvGrpSpPr/>
            <p:nvPr/>
          </p:nvGrpSpPr>
          <p:grpSpPr>
            <a:xfrm>
              <a:off x="57240" y="213120"/>
              <a:ext cx="615240" cy="272160"/>
              <a:chOff x="57240" y="213120"/>
              <a:chExt cx="615240" cy="272160"/>
            </a:xfrm>
          </p:grpSpPr>
          <p:sp>
            <p:nvSpPr>
              <p:cNvPr id="1241" name="椭圆 10"/>
              <p:cNvSpPr/>
              <p:nvPr/>
            </p:nvSpPr>
            <p:spPr>
              <a:xfrm rot="16200000">
                <a:off x="329400" y="367200"/>
                <a:ext cx="103680" cy="13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2" name="椭圆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438480" y="307080"/>
                <a:ext cx="234000" cy="8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椭圆 12"/>
              <p:cNvSpPr/>
              <p:nvPr/>
            </p:nvSpPr>
            <p:spPr>
              <a:xfrm rot="16200000">
                <a:off x="329400" y="234000"/>
                <a:ext cx="103680" cy="13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4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438480" y="223920"/>
                <a:ext cx="234000" cy="8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5" name="圆角矩形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57240" y="31896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6" name="圆角矩形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57240" y="29808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7" name="圆角矩形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57240" y="23364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8" name="圆角矩形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57240" y="21312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9" name="Picture 2" descr="D:\我的文档-桌面-收藏夹\桌面\5328195_031542411309_2.jpg"/>
          <p:cNvPicPr/>
          <p:nvPr/>
        </p:nvPicPr>
        <p:blipFill>
          <a:blip r:embed="rId1"/>
          <a:srcRect l="0" t="11542" r="1098" b="55497"/>
          <a:stretch/>
        </p:blipFill>
        <p:spPr>
          <a:xfrm>
            <a:off x="1071720" y="0"/>
            <a:ext cx="5715000" cy="14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0" name=""/>
          <p:cNvGraphicFramePr/>
          <p:nvPr/>
        </p:nvGraphicFramePr>
        <p:xfrm>
          <a:off x="690480" y="1357200"/>
          <a:ext cx="5487840" cy="2987640"/>
        </p:xfrm>
        <a:graphic>
          <a:graphicData uri="http://schemas.openxmlformats.org/drawingml/2006/table">
            <a:tbl>
              <a:tblPr/>
              <a:tblGrid>
                <a:gridCol w="3665520"/>
                <a:gridCol w="1822320"/>
              </a:tblGrid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航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里程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千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北京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—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8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北京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—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成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4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北京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—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广州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北京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—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台北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北京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—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三亚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4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北京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—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乌鲁木齐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6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51" name="组合 13"/>
          <p:cNvGrpSpPr/>
          <p:nvPr/>
        </p:nvGrpSpPr>
        <p:grpSpPr>
          <a:xfrm>
            <a:off x="811080" y="4475160"/>
            <a:ext cx="6310440" cy="1785960"/>
            <a:chOff x="811080" y="4475160"/>
            <a:chExt cx="6310440" cy="1785960"/>
          </a:xfrm>
        </p:grpSpPr>
        <p:pic>
          <p:nvPicPr>
            <p:cNvPr id="1252" name="Picture 2" descr="D:\我的文档-桌面-收藏夹\桌面\1.jpg"/>
            <p:cNvPicPr/>
            <p:nvPr/>
          </p:nvPicPr>
          <p:blipFill>
            <a:blip r:embed="rId2"/>
            <a:stretch/>
          </p:blipFill>
          <p:spPr>
            <a:xfrm>
              <a:off x="2559240" y="4977720"/>
              <a:ext cx="120492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AutoShape 27"/>
            <p:cNvSpPr/>
            <p:nvPr/>
          </p:nvSpPr>
          <p:spPr>
            <a:xfrm>
              <a:off x="3763440" y="4568760"/>
              <a:ext cx="3358080" cy="1000080"/>
            </a:xfrm>
            <a:prstGeom prst="wedgeRoundRectCallout">
              <a:avLst>
                <a:gd name="adj1" fmla="val -58847"/>
                <a:gd name="adj2" fmla="val -781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再过</a:t>
              </a:r>
              <a:r>
                <a:rPr b="0" lang="en-US" sz="2500" spc="-1" strike="noStrike">
                  <a:solidFill>
                    <a:srgbClr val="1c1c1c"/>
                  </a:solidFill>
                  <a:latin typeface="宋体"/>
                </a:rPr>
                <a:t>20</a:t>
              </a: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分钟，飞往成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都的飞机就要起飞了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AutoShape 27"/>
            <p:cNvSpPr/>
            <p:nvPr/>
          </p:nvSpPr>
          <p:spPr>
            <a:xfrm>
              <a:off x="811080" y="4475160"/>
              <a:ext cx="1928880" cy="1785960"/>
            </a:xfrm>
            <a:prstGeom prst="wedgeRoundRectCallout">
              <a:avLst>
                <a:gd name="adj1" fmla="val 63166"/>
                <a:gd name="adj2" fmla="val 1090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5" name="Picture 4" descr="D:\我的文档-桌面-收藏夹\桌面\1.png"/>
          <p:cNvPicPr/>
          <p:nvPr/>
        </p:nvPicPr>
        <p:blipFill>
          <a:blip r:embed="rId3"/>
          <a:stretch/>
        </p:blipFill>
        <p:spPr>
          <a:xfrm>
            <a:off x="996840" y="46893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256" name="TextBox 27"/>
          <p:cNvSpPr/>
          <p:nvPr/>
        </p:nvSpPr>
        <p:spPr>
          <a:xfrm>
            <a:off x="3774960" y="5643720"/>
            <a:ext cx="2500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在右图上画出飞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机的起飞时间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7" name="Picture 2" descr="D:\我的文档-桌面-收藏夹\桌面\1.png"/>
          <p:cNvPicPr/>
          <p:nvPr/>
        </p:nvPicPr>
        <p:blipFill>
          <a:blip r:embed="rId4"/>
          <a:stretch/>
        </p:blipFill>
        <p:spPr>
          <a:xfrm>
            <a:off x="7191360" y="468000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TextBox 1"/>
          <p:cNvSpPr/>
          <p:nvPr/>
        </p:nvSpPr>
        <p:spPr>
          <a:xfrm>
            <a:off x="357120" y="785880"/>
            <a:ext cx="821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用两个长是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，宽是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的长方形分别拼成一个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方形或一个正方形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组合 9"/>
          <p:cNvGrpSpPr/>
          <p:nvPr/>
        </p:nvGrpSpPr>
        <p:grpSpPr>
          <a:xfrm>
            <a:off x="1071720" y="2286000"/>
            <a:ext cx="3143160" cy="785880"/>
            <a:chOff x="1071720" y="2286000"/>
            <a:chExt cx="3143160" cy="785880"/>
          </a:xfrm>
        </p:grpSpPr>
        <p:sp>
          <p:nvSpPr>
            <p:cNvPr id="1260" name="矩形 2"/>
            <p:cNvSpPr/>
            <p:nvPr/>
          </p:nvSpPr>
          <p:spPr>
            <a:xfrm>
              <a:off x="1071720" y="2286000"/>
              <a:ext cx="1571760" cy="78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矩形 3"/>
            <p:cNvSpPr/>
            <p:nvPr/>
          </p:nvSpPr>
          <p:spPr>
            <a:xfrm>
              <a:off x="2643480" y="2286000"/>
              <a:ext cx="1571400" cy="78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2" name="矩形 4"/>
          <p:cNvSpPr/>
          <p:nvPr/>
        </p:nvSpPr>
        <p:spPr>
          <a:xfrm>
            <a:off x="5000760" y="1928880"/>
            <a:ext cx="157140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矩形 5"/>
          <p:cNvSpPr/>
          <p:nvPr/>
        </p:nvSpPr>
        <p:spPr>
          <a:xfrm>
            <a:off x="5000760" y="2714760"/>
            <a:ext cx="1571400" cy="7855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6"/>
          <p:cNvSpPr/>
          <p:nvPr/>
        </p:nvSpPr>
        <p:spPr>
          <a:xfrm>
            <a:off x="642960" y="3857760"/>
            <a:ext cx="57243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它们的周长分别是多少厘米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Box 7"/>
          <p:cNvSpPr/>
          <p:nvPr/>
        </p:nvSpPr>
        <p:spPr>
          <a:xfrm>
            <a:off x="1428840" y="4879800"/>
            <a:ext cx="578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+6+3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×2=30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厘米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×4=24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厘米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组合 2"/>
          <p:cNvGrpSpPr/>
          <p:nvPr/>
        </p:nvGrpSpPr>
        <p:grpSpPr>
          <a:xfrm>
            <a:off x="-41400" y="111240"/>
            <a:ext cx="3245040" cy="525240"/>
            <a:chOff x="-41400" y="111240"/>
            <a:chExt cx="3245040" cy="525240"/>
          </a:xfrm>
        </p:grpSpPr>
        <p:pic>
          <p:nvPicPr>
            <p:cNvPr id="126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09080" y="111240"/>
              <a:ext cx="3094560" cy="52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8" name="组合 4"/>
            <p:cNvGrpSpPr/>
            <p:nvPr/>
          </p:nvGrpSpPr>
          <p:grpSpPr>
            <a:xfrm>
              <a:off x="-41400" y="207000"/>
              <a:ext cx="430200" cy="271440"/>
              <a:chOff x="-41400" y="207000"/>
              <a:chExt cx="430200" cy="271440"/>
            </a:xfrm>
          </p:grpSpPr>
          <p:sp>
            <p:nvSpPr>
              <p:cNvPr id="1269" name="椭圆 2"/>
              <p:cNvSpPr/>
              <p:nvPr/>
            </p:nvSpPr>
            <p:spPr>
              <a:xfrm rot="16200000">
                <a:off x="201600" y="36936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0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76760" y="33336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1" name="椭圆 29"/>
              <p:cNvSpPr/>
              <p:nvPr/>
            </p:nvSpPr>
            <p:spPr>
              <a:xfrm rot="16200000">
                <a:off x="201600" y="24372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76760" y="22140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41400" y="349200"/>
                <a:ext cx="35676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41400" y="321480"/>
                <a:ext cx="35676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41400" y="234720"/>
                <a:ext cx="35676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41400" y="207000"/>
                <a:ext cx="356760" cy="99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TextBox 3"/>
          <p:cNvSpPr/>
          <p:nvPr/>
        </p:nvSpPr>
        <p:spPr>
          <a:xfrm>
            <a:off x="285840" y="932040"/>
            <a:ext cx="82152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在（    ）里填上适当的数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千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米   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毫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分米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00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千克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吨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Box 4"/>
          <p:cNvSpPr/>
          <p:nvPr/>
        </p:nvSpPr>
        <p:spPr>
          <a:xfrm>
            <a:off x="214200" y="3357720"/>
            <a:ext cx="821556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在（    ）里填上合适的单位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北京到上海的高速铁路长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318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一桶色拉油重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一个鸭蛋约重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一部手机大约厚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Box 5"/>
          <p:cNvSpPr/>
          <p:nvPr/>
        </p:nvSpPr>
        <p:spPr>
          <a:xfrm>
            <a:off x="2000160" y="1596960"/>
            <a:ext cx="9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Box 6"/>
          <p:cNvSpPr/>
          <p:nvPr/>
        </p:nvSpPr>
        <p:spPr>
          <a:xfrm>
            <a:off x="6072120" y="164628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Box 7"/>
          <p:cNvSpPr/>
          <p:nvPr/>
        </p:nvSpPr>
        <p:spPr>
          <a:xfrm>
            <a:off x="2286000" y="221760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Box 8"/>
          <p:cNvSpPr/>
          <p:nvPr/>
        </p:nvSpPr>
        <p:spPr>
          <a:xfrm>
            <a:off x="5715000" y="221760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8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Box 9"/>
          <p:cNvSpPr/>
          <p:nvPr/>
        </p:nvSpPr>
        <p:spPr>
          <a:xfrm>
            <a:off x="2643120" y="278928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Box 10"/>
          <p:cNvSpPr/>
          <p:nvPr/>
        </p:nvSpPr>
        <p:spPr>
          <a:xfrm>
            <a:off x="6143760" y="278928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Box 11"/>
          <p:cNvSpPr/>
          <p:nvPr/>
        </p:nvSpPr>
        <p:spPr>
          <a:xfrm>
            <a:off x="5643720" y="3952800"/>
            <a:ext cx="857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千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Box 12"/>
          <p:cNvSpPr/>
          <p:nvPr/>
        </p:nvSpPr>
        <p:spPr>
          <a:xfrm>
            <a:off x="3571920" y="4524480"/>
            <a:ext cx="857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千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Box 13"/>
          <p:cNvSpPr/>
          <p:nvPr/>
        </p:nvSpPr>
        <p:spPr>
          <a:xfrm>
            <a:off x="3857760" y="509580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14"/>
          <p:cNvSpPr/>
          <p:nvPr/>
        </p:nvSpPr>
        <p:spPr>
          <a:xfrm>
            <a:off x="3857760" y="5715000"/>
            <a:ext cx="857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厘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组合 2"/>
          <p:cNvGrpSpPr/>
          <p:nvPr/>
        </p:nvGrpSpPr>
        <p:grpSpPr>
          <a:xfrm>
            <a:off x="-41400" y="111240"/>
            <a:ext cx="3245040" cy="525240"/>
            <a:chOff x="-41400" y="111240"/>
            <a:chExt cx="3245040" cy="525240"/>
          </a:xfrm>
        </p:grpSpPr>
        <p:pic>
          <p:nvPicPr>
            <p:cNvPr id="1290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09080" y="111240"/>
              <a:ext cx="3094560" cy="52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91" name="组合 4"/>
            <p:cNvGrpSpPr/>
            <p:nvPr/>
          </p:nvGrpSpPr>
          <p:grpSpPr>
            <a:xfrm>
              <a:off x="-41400" y="207000"/>
              <a:ext cx="430200" cy="271440"/>
              <a:chOff x="-41400" y="207000"/>
              <a:chExt cx="430200" cy="271440"/>
            </a:xfrm>
          </p:grpSpPr>
          <p:sp>
            <p:nvSpPr>
              <p:cNvPr id="1292" name="椭圆 3"/>
              <p:cNvSpPr/>
              <p:nvPr/>
            </p:nvSpPr>
            <p:spPr>
              <a:xfrm rot="16200000">
                <a:off x="201600" y="36936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3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76760" y="33336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4" name="椭圆 6"/>
              <p:cNvSpPr/>
              <p:nvPr/>
            </p:nvSpPr>
            <p:spPr>
              <a:xfrm rot="16200000">
                <a:off x="201600" y="24372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5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76760" y="22140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6" name="圆角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-41400" y="349200"/>
                <a:ext cx="35676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7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-41400" y="321480"/>
                <a:ext cx="35676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8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-41400" y="234720"/>
                <a:ext cx="35676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9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-41400" y="207000"/>
                <a:ext cx="356760" cy="99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矩形 5"/>
          <p:cNvSpPr/>
          <p:nvPr/>
        </p:nvSpPr>
        <p:spPr>
          <a:xfrm>
            <a:off x="1500120" y="1643040"/>
            <a:ext cx="6858000" cy="285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1" name="Picture 2" descr="D:\我的文档-桌面-收藏夹\桌面\房子.png"/>
          <p:cNvPicPr/>
          <p:nvPr/>
        </p:nvPicPr>
        <p:blipFill>
          <a:blip r:embed="rId1"/>
          <a:stretch/>
        </p:blipFill>
        <p:spPr>
          <a:xfrm>
            <a:off x="714240" y="922320"/>
            <a:ext cx="1071720" cy="107784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3" descr="D:\我的文档-桌面-收藏夹\桌面\书店.jpg"/>
          <p:cNvPicPr/>
          <p:nvPr/>
        </p:nvPicPr>
        <p:blipFill>
          <a:blip r:embed="rId2"/>
          <a:srcRect l="0" t="8088" r="2694" b="0"/>
          <a:stretch/>
        </p:blipFill>
        <p:spPr>
          <a:xfrm>
            <a:off x="3286080" y="928800"/>
            <a:ext cx="1143000" cy="81108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4" descr="D:\我的文档-桌面-收藏夹\桌面\Redocn_2012062703362761副本.png"/>
          <p:cNvPicPr/>
          <p:nvPr/>
        </p:nvPicPr>
        <p:blipFill>
          <a:blip r:embed="rId3"/>
          <a:stretch/>
        </p:blipFill>
        <p:spPr>
          <a:xfrm>
            <a:off x="4638600" y="536400"/>
            <a:ext cx="1433520" cy="117828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5" descr="D:\我的文档-桌面-收藏夹\桌面\2309835_094417072372_2.jpg"/>
          <p:cNvPicPr/>
          <p:nvPr/>
        </p:nvPicPr>
        <p:blipFill>
          <a:blip r:embed="rId4"/>
          <a:srcRect l="0" t="0" r="-224" b="19698"/>
          <a:stretch/>
        </p:blipFill>
        <p:spPr>
          <a:xfrm>
            <a:off x="7143840" y="928800"/>
            <a:ext cx="1285920" cy="1071360"/>
          </a:xfrm>
          <a:prstGeom prst="rect">
            <a:avLst/>
          </a:prstGeom>
          <a:ln w="0">
            <a:noFill/>
          </a:ln>
        </p:spPr>
      </p:pic>
      <p:sp>
        <p:nvSpPr>
          <p:cNvPr id="1305" name="TextBox 6"/>
          <p:cNvSpPr/>
          <p:nvPr/>
        </p:nvSpPr>
        <p:spPr>
          <a:xfrm>
            <a:off x="714240" y="2071800"/>
            <a:ext cx="1000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小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TextBox 7"/>
          <p:cNvSpPr/>
          <p:nvPr/>
        </p:nvSpPr>
        <p:spPr>
          <a:xfrm>
            <a:off x="3571920" y="2000160"/>
            <a:ext cx="100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书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TextBox 8"/>
          <p:cNvSpPr/>
          <p:nvPr/>
        </p:nvSpPr>
        <p:spPr>
          <a:xfrm>
            <a:off x="4929120" y="2000160"/>
            <a:ext cx="100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学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TextBox 9"/>
          <p:cNvSpPr/>
          <p:nvPr/>
        </p:nvSpPr>
        <p:spPr>
          <a:xfrm>
            <a:off x="7500960" y="2000160"/>
            <a:ext cx="100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超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Box 11"/>
          <p:cNvSpPr/>
          <p:nvPr/>
        </p:nvSpPr>
        <p:spPr>
          <a:xfrm>
            <a:off x="357120" y="2786040"/>
            <a:ext cx="864396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小刚家到学校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50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，到超市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00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。书店到超市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学校到超市的距离是（    ）米，书店到学校的距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是（    ）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小刚家到书店的距离是（    ），合（    ）千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TextBox 12"/>
          <p:cNvSpPr/>
          <p:nvPr/>
        </p:nvSpPr>
        <p:spPr>
          <a:xfrm>
            <a:off x="4286160" y="3643200"/>
            <a:ext cx="857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5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xtBox 13"/>
          <p:cNvSpPr/>
          <p:nvPr/>
        </p:nvSpPr>
        <p:spPr>
          <a:xfrm>
            <a:off x="1857240" y="4022640"/>
            <a:ext cx="71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Box 14"/>
          <p:cNvSpPr/>
          <p:nvPr/>
        </p:nvSpPr>
        <p:spPr>
          <a:xfrm>
            <a:off x="4643280" y="4524480"/>
            <a:ext cx="9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Box 15"/>
          <p:cNvSpPr/>
          <p:nvPr/>
        </p:nvSpPr>
        <p:spPr>
          <a:xfrm>
            <a:off x="6786720" y="4500720"/>
            <a:ext cx="42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组合 2"/>
          <p:cNvGrpSpPr/>
          <p:nvPr/>
        </p:nvGrpSpPr>
        <p:grpSpPr>
          <a:xfrm>
            <a:off x="-41400" y="111240"/>
            <a:ext cx="3245040" cy="525240"/>
            <a:chOff x="-41400" y="111240"/>
            <a:chExt cx="3245040" cy="525240"/>
          </a:xfrm>
        </p:grpSpPr>
        <p:pic>
          <p:nvPicPr>
            <p:cNvPr id="1315" name="圆角矩形 2" descr=""/>
            <p:cNvPicPr/>
            <p:nvPr/>
          </p:nvPicPr>
          <p:blipFill>
            <a:blip r:embed="rId5"/>
            <a:stretch/>
          </p:blipFill>
          <p:spPr>
            <a:xfrm>
              <a:off x="109080" y="111240"/>
              <a:ext cx="3094560" cy="52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6" name="组合 4"/>
            <p:cNvGrpSpPr/>
            <p:nvPr/>
          </p:nvGrpSpPr>
          <p:grpSpPr>
            <a:xfrm>
              <a:off x="-41400" y="207000"/>
              <a:ext cx="430200" cy="271440"/>
              <a:chOff x="-41400" y="207000"/>
              <a:chExt cx="430200" cy="271440"/>
            </a:xfrm>
          </p:grpSpPr>
          <p:sp>
            <p:nvSpPr>
              <p:cNvPr id="1317" name="椭圆 3"/>
              <p:cNvSpPr/>
              <p:nvPr/>
            </p:nvSpPr>
            <p:spPr>
              <a:xfrm rot="16200000">
                <a:off x="201600" y="36936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8" name="椭圆 4" descr=""/>
              <p:cNvPicPr/>
              <p:nvPr/>
            </p:nvPicPr>
            <p:blipFill>
              <a:blip r:embed="rId6"/>
              <a:stretch/>
            </p:blipFill>
            <p:spPr>
              <a:xfrm>
                <a:off x="176760" y="33336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9" name="椭圆 6"/>
              <p:cNvSpPr/>
              <p:nvPr/>
            </p:nvSpPr>
            <p:spPr>
              <a:xfrm rot="16200000">
                <a:off x="201600" y="24372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0" name="椭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176760" y="22140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1" name="圆角矩形 9" descr=""/>
              <p:cNvPicPr/>
              <p:nvPr/>
            </p:nvPicPr>
            <p:blipFill>
              <a:blip r:embed="rId8"/>
              <a:stretch/>
            </p:blipFill>
            <p:spPr>
              <a:xfrm>
                <a:off x="-41400" y="349200"/>
                <a:ext cx="35676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2" name="圆角矩形 10" descr=""/>
              <p:cNvPicPr/>
              <p:nvPr/>
            </p:nvPicPr>
            <p:blipFill>
              <a:blip r:embed="rId9"/>
              <a:stretch/>
            </p:blipFill>
            <p:spPr>
              <a:xfrm>
                <a:off x="-41400" y="321480"/>
                <a:ext cx="35676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3" name="圆角矩形 11" descr=""/>
              <p:cNvPicPr/>
              <p:nvPr/>
            </p:nvPicPr>
            <p:blipFill>
              <a:blip r:embed="rId10"/>
              <a:stretch/>
            </p:blipFill>
            <p:spPr>
              <a:xfrm>
                <a:off x="-41400" y="234720"/>
                <a:ext cx="35676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4" name="圆角矩形 12" descr=""/>
              <p:cNvPicPr/>
              <p:nvPr/>
            </p:nvPicPr>
            <p:blipFill>
              <a:blip r:embed="rId11"/>
              <a:stretch/>
            </p:blipFill>
            <p:spPr>
              <a:xfrm>
                <a:off x="-41400" y="207000"/>
                <a:ext cx="356760" cy="99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57240" y="117360"/>
            <a:ext cx="4608360" cy="525600"/>
            <a:chOff x="57240" y="117360"/>
            <a:chExt cx="460836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282960" y="117360"/>
              <a:ext cx="43826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57240" y="213120"/>
              <a:ext cx="615240" cy="272160"/>
              <a:chOff x="57240" y="213120"/>
              <a:chExt cx="615240" cy="272160"/>
            </a:xfrm>
          </p:grpSpPr>
          <p:sp>
            <p:nvSpPr>
              <p:cNvPr id="1001" name="椭圆 2"/>
              <p:cNvSpPr/>
              <p:nvPr/>
            </p:nvSpPr>
            <p:spPr>
              <a:xfrm rot="16200000">
                <a:off x="329400" y="367200"/>
                <a:ext cx="103680" cy="13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38480" y="307080"/>
                <a:ext cx="234000" cy="8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329400" y="234000"/>
                <a:ext cx="103680" cy="13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480" y="223920"/>
                <a:ext cx="234000" cy="8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0" y="31896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57240" y="29808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57240" y="23364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57240" y="21312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AutoShape 27"/>
          <p:cNvSpPr/>
          <p:nvPr/>
        </p:nvSpPr>
        <p:spPr>
          <a:xfrm>
            <a:off x="4275000" y="642960"/>
            <a:ext cx="3532320" cy="934920"/>
          </a:xfrm>
          <a:prstGeom prst="wedgeRoundRectCallout">
            <a:avLst>
              <a:gd name="adj1" fmla="val 55796"/>
              <a:gd name="adj2" fmla="val 3692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这节课我们重点复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、分、秒和测量的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27"/>
          <p:cNvSpPr/>
          <p:nvPr/>
        </p:nvSpPr>
        <p:spPr>
          <a:xfrm>
            <a:off x="4108320" y="3511440"/>
            <a:ext cx="3949920" cy="577800"/>
          </a:xfrm>
          <a:prstGeom prst="wedgeRoundRectCallout">
            <a:avLst>
              <a:gd name="adj1" fmla="val 55425"/>
              <a:gd name="adj2" fmla="val 4806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这学期你有什么收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图片 1" descr="6)5][}VZ%@FXJ)FA]TI76$O"/>
          <p:cNvPicPr/>
          <p:nvPr/>
        </p:nvPicPr>
        <p:blipFill>
          <a:blip r:embed="rId8"/>
          <a:stretch/>
        </p:blipFill>
        <p:spPr>
          <a:xfrm flipH="1">
            <a:off x="8158320" y="1220760"/>
            <a:ext cx="844560" cy="900000"/>
          </a:xfrm>
          <a:prstGeom prst="rect">
            <a:avLst/>
          </a:prstGeom>
          <a:ln w="0">
            <a:noFill/>
          </a:ln>
        </p:spPr>
      </p:pic>
      <p:pic>
        <p:nvPicPr>
          <p:cNvPr id="1012" name="图片 3" descr="6)5][}VZ%@FXJ)FA]TI76$O"/>
          <p:cNvPicPr/>
          <p:nvPr/>
        </p:nvPicPr>
        <p:blipFill>
          <a:blip r:embed="rId9"/>
          <a:stretch/>
        </p:blipFill>
        <p:spPr>
          <a:xfrm flipH="1">
            <a:off x="8245440" y="3632040"/>
            <a:ext cx="838080" cy="893880"/>
          </a:xfrm>
          <a:prstGeom prst="rect">
            <a:avLst/>
          </a:prstGeom>
          <a:ln w="0">
            <a:noFill/>
          </a:ln>
        </p:spPr>
      </p:pic>
      <p:grpSp>
        <p:nvGrpSpPr>
          <p:cNvPr id="1013" name="组合 20"/>
          <p:cNvGrpSpPr/>
          <p:nvPr/>
        </p:nvGrpSpPr>
        <p:grpSpPr>
          <a:xfrm>
            <a:off x="1062000" y="4309920"/>
            <a:ext cx="4363920" cy="1741320"/>
            <a:chOff x="1062000" y="4309920"/>
            <a:chExt cx="4363920" cy="1741320"/>
          </a:xfrm>
        </p:grpSpPr>
        <p:grpSp>
          <p:nvGrpSpPr>
            <p:cNvPr id="1014" name="组合 18"/>
            <p:cNvGrpSpPr/>
            <p:nvPr/>
          </p:nvGrpSpPr>
          <p:grpSpPr>
            <a:xfrm>
              <a:off x="1062000" y="4309920"/>
              <a:ext cx="3206160" cy="1741320"/>
              <a:chOff x="1062000" y="4309920"/>
              <a:chExt cx="3206160" cy="1741320"/>
            </a:xfrm>
          </p:grpSpPr>
          <p:pic>
            <p:nvPicPr>
              <p:cNvPr id="1015" name="图片 4" descr="{L2@LHY@LJTTLLLWA[ADU62"/>
              <p:cNvPicPr/>
              <p:nvPr/>
            </p:nvPicPr>
            <p:blipFill>
              <a:blip r:embed="rId10"/>
              <a:stretch/>
            </p:blipFill>
            <p:spPr>
              <a:xfrm>
                <a:off x="1254960" y="4841640"/>
                <a:ext cx="378360" cy="3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6" name="文本框 6"/>
              <p:cNvSpPr/>
              <p:nvPr/>
            </p:nvSpPr>
            <p:spPr>
              <a:xfrm>
                <a:off x="1133640" y="4309920"/>
                <a:ext cx="213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成长小档案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文本框 8"/>
              <p:cNvSpPr/>
              <p:nvPr/>
            </p:nvSpPr>
            <p:spPr>
              <a:xfrm>
                <a:off x="1062000" y="5591520"/>
                <a:ext cx="32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这学期有什么收获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8" name="图片 9" descr="{L2@LHY@LJTTLLLWA[ADU62"/>
              <p:cNvPicPr/>
              <p:nvPr/>
            </p:nvPicPr>
            <p:blipFill>
              <a:blip r:embed="rId11"/>
              <a:stretch/>
            </p:blipFill>
            <p:spPr>
              <a:xfrm>
                <a:off x="2082600" y="4841640"/>
                <a:ext cx="37836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9" name="图片 10" descr="{L2@LHY@LJTTLLLWA[ADU62"/>
              <p:cNvPicPr/>
              <p:nvPr/>
            </p:nvPicPr>
            <p:blipFill>
              <a:blip r:embed="rId12"/>
              <a:stretch/>
            </p:blipFill>
            <p:spPr>
              <a:xfrm>
                <a:off x="2475720" y="4841640"/>
                <a:ext cx="37836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0" name="图片 11" descr="{L2@LHY@LJTTLLLWA[ADU62"/>
              <p:cNvPicPr/>
              <p:nvPr/>
            </p:nvPicPr>
            <p:blipFill>
              <a:blip r:embed="rId13"/>
              <a:stretch/>
            </p:blipFill>
            <p:spPr>
              <a:xfrm>
                <a:off x="2854440" y="4841640"/>
                <a:ext cx="37836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图片 12" descr="{L2@LHY@LJTTLLLWA[ADU62"/>
              <p:cNvPicPr/>
              <p:nvPr/>
            </p:nvPicPr>
            <p:blipFill>
              <a:blip r:embed="rId14"/>
              <a:stretch/>
            </p:blipFill>
            <p:spPr>
              <a:xfrm>
                <a:off x="1633320" y="4841640"/>
                <a:ext cx="37836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图片 13" descr="{L2@LHY@LJTTLLLWA[ADU62"/>
              <p:cNvPicPr/>
              <p:nvPr/>
            </p:nvPicPr>
            <p:blipFill>
              <a:blip r:embed="rId15"/>
              <a:stretch/>
            </p:blipFill>
            <p:spPr>
              <a:xfrm>
                <a:off x="1254960" y="5229360"/>
                <a:ext cx="37836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图片 14" descr="{L2@LHY@LJTTLLLWA[ADU62"/>
              <p:cNvPicPr/>
              <p:nvPr/>
            </p:nvPicPr>
            <p:blipFill>
              <a:blip r:embed="rId16"/>
              <a:stretch/>
            </p:blipFill>
            <p:spPr>
              <a:xfrm>
                <a:off x="1633320" y="5229360"/>
                <a:ext cx="37836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图片 15" descr="{L2@LHY@LJTTLLLWA[ADU62"/>
              <p:cNvPicPr/>
              <p:nvPr/>
            </p:nvPicPr>
            <p:blipFill>
              <a:blip r:embed="rId17"/>
              <a:stretch/>
            </p:blipFill>
            <p:spPr>
              <a:xfrm>
                <a:off x="2082600" y="5229360"/>
                <a:ext cx="37836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图片 16" descr="{L2@LHY@LJTTLLLWA[ADU62"/>
              <p:cNvPicPr/>
              <p:nvPr/>
            </p:nvPicPr>
            <p:blipFill>
              <a:blip r:embed="rId18"/>
              <a:stretch/>
            </p:blipFill>
            <p:spPr>
              <a:xfrm>
                <a:off x="2475720" y="5229360"/>
                <a:ext cx="37836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6" name="图片 17" descr="{L2@LHY@LJTTLLLWA[ADU62"/>
              <p:cNvPicPr/>
              <p:nvPr/>
            </p:nvPicPr>
            <p:blipFill>
              <a:blip r:embed="rId19"/>
              <a:stretch/>
            </p:blipFill>
            <p:spPr>
              <a:xfrm>
                <a:off x="2886840" y="5229360"/>
                <a:ext cx="378360" cy="361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27" name="图片 19" descr="[[749RJH)_$K3XI~VO6AG3V"/>
            <p:cNvPicPr/>
            <p:nvPr/>
          </p:nvPicPr>
          <p:blipFill>
            <a:blip r:embed="rId20"/>
            <a:stretch/>
          </p:blipFill>
          <p:spPr>
            <a:xfrm>
              <a:off x="3812760" y="4524480"/>
              <a:ext cx="161316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8" name="组合 26"/>
          <p:cNvGrpSpPr/>
          <p:nvPr/>
        </p:nvGrpSpPr>
        <p:grpSpPr>
          <a:xfrm>
            <a:off x="0" y="798480"/>
            <a:ext cx="1831680" cy="1262880"/>
            <a:chOff x="0" y="798480"/>
            <a:chExt cx="1831680" cy="1262880"/>
          </a:xfrm>
        </p:grpSpPr>
        <p:grpSp>
          <p:nvGrpSpPr>
            <p:cNvPr id="1029" name="组合 27"/>
            <p:cNvGrpSpPr/>
            <p:nvPr/>
          </p:nvGrpSpPr>
          <p:grpSpPr>
            <a:xfrm>
              <a:off x="0" y="798480"/>
              <a:ext cx="1831680" cy="905760"/>
              <a:chOff x="0" y="798480"/>
              <a:chExt cx="1831680" cy="905760"/>
            </a:xfrm>
          </p:grpSpPr>
          <p:pic>
            <p:nvPicPr>
              <p:cNvPr id="1030" name="图片 28" descr="6)5][}VZ%@FXJ)FA]TI76$O"/>
              <p:cNvPicPr/>
              <p:nvPr/>
            </p:nvPicPr>
            <p:blipFill>
              <a:blip r:embed="rId21"/>
              <a:stretch/>
            </p:blipFill>
            <p:spPr>
              <a:xfrm>
                <a:off x="0" y="1044360"/>
                <a:ext cx="619560" cy="65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1" name="图片 35" descr="R6PEPN8X6D$W%S4WDXFKZF2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20200" y="798480"/>
                <a:ext cx="1311480" cy="59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2" name="文本框 36"/>
              <p:cNvSpPr/>
              <p:nvPr/>
            </p:nvSpPr>
            <p:spPr>
              <a:xfrm>
                <a:off x="649440" y="956880"/>
                <a:ext cx="964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认识了分数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组合 37"/>
            <p:cNvGrpSpPr/>
            <p:nvPr/>
          </p:nvGrpSpPr>
          <p:grpSpPr>
            <a:xfrm>
              <a:off x="1181880" y="1433520"/>
              <a:ext cx="575280" cy="143280"/>
              <a:chOff x="1181880" y="1433520"/>
              <a:chExt cx="575280" cy="143280"/>
            </a:xfrm>
          </p:grpSpPr>
          <p:sp>
            <p:nvSpPr>
              <p:cNvPr id="1034" name="矩形 38"/>
              <p:cNvSpPr/>
              <p:nvPr/>
            </p:nvSpPr>
            <p:spPr>
              <a:xfrm>
                <a:off x="1181880" y="1433520"/>
                <a:ext cx="143640" cy="143280"/>
              </a:xfrm>
              <a:prstGeom prst="rect">
                <a:avLst/>
              </a:prstGeom>
              <a:solidFill>
                <a:srgbClr val="facba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矩形 39"/>
              <p:cNvSpPr/>
              <p:nvPr/>
            </p:nvSpPr>
            <p:spPr>
              <a:xfrm>
                <a:off x="1325520" y="1433520"/>
                <a:ext cx="143640" cy="14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矩形 40"/>
              <p:cNvSpPr/>
              <p:nvPr/>
            </p:nvSpPr>
            <p:spPr>
              <a:xfrm>
                <a:off x="1469520" y="1433520"/>
                <a:ext cx="143640" cy="14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矩形 41"/>
              <p:cNvSpPr/>
              <p:nvPr/>
            </p:nvSpPr>
            <p:spPr>
              <a:xfrm>
                <a:off x="1613520" y="1433520"/>
                <a:ext cx="143640" cy="14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8" name="组合 32"/>
            <p:cNvGrpSpPr/>
            <p:nvPr/>
          </p:nvGrpSpPr>
          <p:grpSpPr>
            <a:xfrm>
              <a:off x="1024560" y="1577880"/>
              <a:ext cx="303840" cy="483480"/>
              <a:chOff x="1024560" y="1577880"/>
              <a:chExt cx="303840" cy="483480"/>
            </a:xfrm>
          </p:grpSpPr>
          <p:sp>
            <p:nvSpPr>
              <p:cNvPr id="1039" name="Text Box 54"/>
              <p:cNvSpPr/>
              <p:nvPr/>
            </p:nvSpPr>
            <p:spPr>
              <a:xfrm>
                <a:off x="1024560" y="1577880"/>
                <a:ext cx="303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 Box 55"/>
              <p:cNvSpPr/>
              <p:nvPr/>
            </p:nvSpPr>
            <p:spPr>
              <a:xfrm>
                <a:off x="1024560" y="1784880"/>
                <a:ext cx="303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宋体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1" name=""/>
              <p:cNvGrpSpPr/>
              <p:nvPr/>
            </p:nvGrpSpPr>
            <p:grpSpPr>
              <a:xfrm>
                <a:off x="1108800" y="1791360"/>
                <a:ext cx="134640" cy="360"/>
                <a:chOff x="1108800" y="1791360"/>
                <a:chExt cx="134640" cy="360"/>
              </a:xfrm>
            </p:grpSpPr>
            <p:sp>
              <p:nvSpPr>
                <p:cNvPr id="1042" name="Line 56"/>
                <p:cNvSpPr/>
                <p:nvPr/>
              </p:nvSpPr>
              <p:spPr>
                <a:xfrm>
                  <a:off x="1108800" y="1791360"/>
                  <a:ext cx="134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 txBox="1"/>
                <p:nvPr/>
              </p:nvSpPr>
              <p:spPr>
                <a:xfrm>
                  <a:off x="1108800" y="1791360"/>
                  <a:ext cx="134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44" name="组合 42"/>
          <p:cNvGrpSpPr/>
          <p:nvPr/>
        </p:nvGrpSpPr>
        <p:grpSpPr>
          <a:xfrm>
            <a:off x="1989000" y="744480"/>
            <a:ext cx="2022480" cy="1314360"/>
            <a:chOff x="1989000" y="744480"/>
            <a:chExt cx="2022480" cy="1314360"/>
          </a:xfrm>
        </p:grpSpPr>
        <p:sp>
          <p:nvSpPr>
            <p:cNvPr id="1045" name="圆角矩形 43"/>
            <p:cNvSpPr/>
            <p:nvPr/>
          </p:nvSpPr>
          <p:spPr>
            <a:xfrm>
              <a:off x="2095560" y="1658880"/>
              <a:ext cx="287640" cy="28728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圆角矩形 44"/>
            <p:cNvSpPr/>
            <p:nvPr/>
          </p:nvSpPr>
          <p:spPr>
            <a:xfrm>
              <a:off x="2597760" y="1674720"/>
              <a:ext cx="504000" cy="28800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7" name="图片 45" descr="]@P`{@U$K{A7A$9804YYMFT"/>
            <p:cNvPicPr/>
            <p:nvPr/>
          </p:nvPicPr>
          <p:blipFill>
            <a:blip r:embed="rId23"/>
            <a:stretch/>
          </p:blipFill>
          <p:spPr>
            <a:xfrm flipH="1">
              <a:off x="3480840" y="1384200"/>
              <a:ext cx="5306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图片 46" descr="R6PEPN8X6D$W%S4WDXFKZF2"/>
            <p:cNvPicPr/>
            <p:nvPr/>
          </p:nvPicPr>
          <p:blipFill>
            <a:blip r:embed="rId24"/>
            <a:stretch/>
          </p:blipFill>
          <p:spPr>
            <a:xfrm>
              <a:off x="1989000" y="744480"/>
              <a:ext cx="2022480" cy="72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9" name="文本框 47"/>
            <p:cNvSpPr/>
            <p:nvPr/>
          </p:nvSpPr>
          <p:spPr>
            <a:xfrm>
              <a:off x="2215440" y="744480"/>
              <a:ext cx="179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进一步认识了长方形和正方形，还会求一个图形的周长了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组合 48"/>
          <p:cNvGrpSpPr/>
          <p:nvPr/>
        </p:nvGrpSpPr>
        <p:grpSpPr>
          <a:xfrm>
            <a:off x="-32040" y="2325600"/>
            <a:ext cx="2127600" cy="1012320"/>
            <a:chOff x="-32040" y="2325600"/>
            <a:chExt cx="2127600" cy="1012320"/>
          </a:xfrm>
        </p:grpSpPr>
        <p:pic>
          <p:nvPicPr>
            <p:cNvPr id="1051" name="图片 49" descr="_4`F[E$PX4I}_~SSZVJ7V4J"/>
            <p:cNvPicPr/>
            <p:nvPr/>
          </p:nvPicPr>
          <p:blipFill>
            <a:blip r:embed="rId25"/>
            <a:stretch/>
          </p:blipFill>
          <p:spPr>
            <a:xfrm flipH="1">
              <a:off x="-32040" y="2486880"/>
              <a:ext cx="57708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图片 50" descr="R6PEPN8X6D$W%S4WDXFKZF2"/>
            <p:cNvPicPr/>
            <p:nvPr/>
          </p:nvPicPr>
          <p:blipFill>
            <a:blip r:embed="rId26"/>
            <a:stretch/>
          </p:blipFill>
          <p:spPr>
            <a:xfrm flipH="1">
              <a:off x="425160" y="2325600"/>
              <a:ext cx="158364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3" name="文本框 51"/>
            <p:cNvSpPr/>
            <p:nvPr/>
          </p:nvSpPr>
          <p:spPr>
            <a:xfrm>
              <a:off x="518040" y="2411280"/>
              <a:ext cx="1334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我知道了时、分、秒的关系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文本框 52"/>
            <p:cNvSpPr/>
            <p:nvPr/>
          </p:nvSpPr>
          <p:spPr>
            <a:xfrm>
              <a:off x="740520" y="2802960"/>
              <a:ext cx="13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时</a:t>
              </a: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=60</a:t>
              </a: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文本框 53"/>
            <p:cNvSpPr/>
            <p:nvPr/>
          </p:nvSpPr>
          <p:spPr>
            <a:xfrm>
              <a:off x="661680" y="3091680"/>
              <a:ext cx="127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分</a:t>
              </a: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=60</a:t>
              </a: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秒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组合 54"/>
          <p:cNvGrpSpPr/>
          <p:nvPr/>
        </p:nvGrpSpPr>
        <p:grpSpPr>
          <a:xfrm>
            <a:off x="1852560" y="2190600"/>
            <a:ext cx="2347920" cy="1567800"/>
            <a:chOff x="1852560" y="2190600"/>
            <a:chExt cx="2347920" cy="1567800"/>
          </a:xfrm>
        </p:grpSpPr>
        <p:grpSp>
          <p:nvGrpSpPr>
            <p:cNvPr id="1057" name="组合 55"/>
            <p:cNvGrpSpPr/>
            <p:nvPr/>
          </p:nvGrpSpPr>
          <p:grpSpPr>
            <a:xfrm>
              <a:off x="1852560" y="2190600"/>
              <a:ext cx="1450080" cy="1230480"/>
              <a:chOff x="1852560" y="2190600"/>
              <a:chExt cx="1450080" cy="1230480"/>
            </a:xfrm>
          </p:grpSpPr>
          <p:pic>
            <p:nvPicPr>
              <p:cNvPr id="1058" name="图片 56" descr="AG]4}@PH9UX]GS)L_H5_`K9"/>
              <p:cNvPicPr/>
              <p:nvPr/>
            </p:nvPicPr>
            <p:blipFill>
              <a:blip r:embed="rId27"/>
              <a:stretch/>
            </p:blipFill>
            <p:spPr>
              <a:xfrm>
                <a:off x="1852560" y="2610360"/>
                <a:ext cx="295920" cy="81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图片 57" descr="R6PEPN8X6D$W%S4WDXFKZF2"/>
              <p:cNvPicPr/>
              <p:nvPr/>
            </p:nvPicPr>
            <p:blipFill>
              <a:blip r:embed="rId28"/>
              <a:stretch/>
            </p:blipFill>
            <p:spPr>
              <a:xfrm rot="5400000">
                <a:off x="2360160" y="1906560"/>
                <a:ext cx="527040" cy="109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0" name="文本框 58"/>
              <p:cNvSpPr/>
              <p:nvPr/>
            </p:nvSpPr>
            <p:spPr>
              <a:xfrm>
                <a:off x="2223360" y="2214720"/>
                <a:ext cx="1079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我学会了乘数是一位数的乘法了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宋体"/>
                  </a:rPr>
                  <a:t>……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1" name="图片 59" descr="2H}X(L(]QYGI)}W9D5VJEGS"/>
            <p:cNvPicPr/>
            <p:nvPr/>
          </p:nvPicPr>
          <p:blipFill>
            <a:blip r:embed="rId29"/>
            <a:stretch/>
          </p:blipFill>
          <p:spPr>
            <a:xfrm flipH="1">
              <a:off x="3748320" y="2488320"/>
              <a:ext cx="452160" cy="92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2" name="组合 60"/>
            <p:cNvGrpSpPr/>
            <p:nvPr/>
          </p:nvGrpSpPr>
          <p:grpSpPr>
            <a:xfrm>
              <a:off x="3119760" y="2270520"/>
              <a:ext cx="722880" cy="439200"/>
              <a:chOff x="3119760" y="2270520"/>
              <a:chExt cx="722880" cy="439200"/>
            </a:xfrm>
          </p:grpSpPr>
          <p:pic>
            <p:nvPicPr>
              <p:cNvPr id="1063" name="图片 61" descr="R6PEPN8X6D$W%S4WDXFKZF2"/>
              <p:cNvPicPr/>
              <p:nvPr/>
            </p:nvPicPr>
            <p:blipFill>
              <a:blip r:embed="rId30"/>
              <a:stretch/>
            </p:blipFill>
            <p:spPr>
              <a:xfrm>
                <a:off x="3119760" y="2270520"/>
                <a:ext cx="722880" cy="43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4" name="文本框 62"/>
              <p:cNvSpPr/>
              <p:nvPr/>
            </p:nvSpPr>
            <p:spPr>
              <a:xfrm>
                <a:off x="3162960" y="2275920"/>
                <a:ext cx="637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我还能口算呢！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5" name="组合 63"/>
            <p:cNvGrpSpPr/>
            <p:nvPr/>
          </p:nvGrpSpPr>
          <p:grpSpPr>
            <a:xfrm>
              <a:off x="2918520" y="2628720"/>
              <a:ext cx="766080" cy="1129680"/>
              <a:chOff x="2918520" y="2628720"/>
              <a:chExt cx="766080" cy="1129680"/>
            </a:xfrm>
          </p:grpSpPr>
          <p:sp>
            <p:nvSpPr>
              <p:cNvPr id="1066" name="文本框 64"/>
              <p:cNvSpPr/>
              <p:nvPr/>
            </p:nvSpPr>
            <p:spPr>
              <a:xfrm>
                <a:off x="2918520" y="2628720"/>
                <a:ext cx="766080" cy="11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宋体"/>
                  </a:rPr>
                  <a:t>15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     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×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宋体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7" name="组合 65"/>
              <p:cNvGrpSpPr/>
              <p:nvPr/>
            </p:nvGrpSpPr>
            <p:grpSpPr>
              <a:xfrm>
                <a:off x="2918520" y="2941200"/>
                <a:ext cx="753480" cy="482400"/>
                <a:chOff x="2918520" y="2941200"/>
                <a:chExt cx="753480" cy="482400"/>
              </a:xfrm>
            </p:grpSpPr>
            <p:sp>
              <p:nvSpPr>
                <p:cNvPr id="1068" name="直接连接符 66"/>
                <p:cNvSpPr/>
                <p:nvPr/>
              </p:nvSpPr>
              <p:spPr>
                <a:xfrm>
                  <a:off x="2918520" y="3169800"/>
                  <a:ext cx="550800" cy="7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文本框 67"/>
                <p:cNvSpPr/>
                <p:nvPr/>
              </p:nvSpPr>
              <p:spPr>
                <a:xfrm>
                  <a:off x="3122280" y="3177360"/>
                  <a:ext cx="549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宋体"/>
                    </a:rPr>
                    <a:t>9 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文本框 68"/>
                <p:cNvSpPr/>
                <p:nvPr/>
              </p:nvSpPr>
              <p:spPr>
                <a:xfrm>
                  <a:off x="3122280" y="2941200"/>
                  <a:ext cx="1425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图片 22541" descr=""/>
          <p:cNvPicPr/>
          <p:nvPr/>
        </p:nvPicPr>
        <p:blipFill>
          <a:blip r:embed="rId1"/>
          <a:stretch/>
        </p:blipFill>
        <p:spPr>
          <a:xfrm>
            <a:off x="4524480" y="853920"/>
            <a:ext cx="4362480" cy="3495960"/>
          </a:xfrm>
          <a:prstGeom prst="rect">
            <a:avLst/>
          </a:prstGeom>
          <a:ln w="0">
            <a:noFill/>
          </a:ln>
        </p:spPr>
      </p:pic>
      <p:grpSp>
        <p:nvGrpSpPr>
          <p:cNvPr id="1072" name="组合 4"/>
          <p:cNvGrpSpPr/>
          <p:nvPr/>
        </p:nvGrpSpPr>
        <p:grpSpPr>
          <a:xfrm>
            <a:off x="279360" y="1282680"/>
            <a:ext cx="4117680" cy="1569960"/>
            <a:chOff x="279360" y="1282680"/>
            <a:chExt cx="4117680" cy="1569960"/>
          </a:xfrm>
        </p:grpSpPr>
        <p:sp>
          <p:nvSpPr>
            <p:cNvPr id="1073" name="AutoShape 27"/>
            <p:cNvSpPr/>
            <p:nvPr/>
          </p:nvSpPr>
          <p:spPr>
            <a:xfrm>
              <a:off x="1765080" y="1282680"/>
              <a:ext cx="2631960" cy="960480"/>
            </a:xfrm>
            <a:prstGeom prst="wedgeRoundRectCallout">
              <a:avLst>
                <a:gd name="adj1" fmla="val -60425"/>
                <a:gd name="adj2" fmla="val 3363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秒针走一圈，分针走几小格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4" name="图片 1" descr="6)5][}VZ%@FXJ)FA]TI76$O"/>
            <p:cNvPicPr/>
            <p:nvPr/>
          </p:nvPicPr>
          <p:blipFill>
            <a:blip r:embed="rId2"/>
            <a:stretch/>
          </p:blipFill>
          <p:spPr>
            <a:xfrm>
              <a:off x="279360" y="1570320"/>
              <a:ext cx="1203120" cy="128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5" name="TextBox 164"/>
          <p:cNvSpPr/>
          <p:nvPr/>
        </p:nvSpPr>
        <p:spPr>
          <a:xfrm>
            <a:off x="1857240" y="4349880"/>
            <a:ext cx="3673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组合 6"/>
          <p:cNvGrpSpPr/>
          <p:nvPr/>
        </p:nvGrpSpPr>
        <p:grpSpPr>
          <a:xfrm>
            <a:off x="365040" y="3102120"/>
            <a:ext cx="3749760" cy="1871640"/>
            <a:chOff x="365040" y="3102120"/>
            <a:chExt cx="3749760" cy="1871640"/>
          </a:xfrm>
        </p:grpSpPr>
        <p:sp>
          <p:nvSpPr>
            <p:cNvPr id="1077" name="AutoShape 27"/>
            <p:cNvSpPr/>
            <p:nvPr/>
          </p:nvSpPr>
          <p:spPr>
            <a:xfrm>
              <a:off x="2099160" y="3323160"/>
              <a:ext cx="2015640" cy="864000"/>
            </a:xfrm>
            <a:prstGeom prst="wedgeRoundRectCallout">
              <a:avLst>
                <a:gd name="adj1" fmla="val -63620"/>
                <a:gd name="adj2" fmla="val -220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秒针走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一圈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针走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小格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8" name="图片 3" descr="]@P`{@U$K{A7A$9804YYMFT"/>
            <p:cNvPicPr/>
            <p:nvPr/>
          </p:nvPicPr>
          <p:blipFill>
            <a:blip r:embed="rId3"/>
            <a:stretch/>
          </p:blipFill>
          <p:spPr>
            <a:xfrm>
              <a:off x="365040" y="3102120"/>
              <a:ext cx="1270080" cy="16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9" name="TextBox 165"/>
            <p:cNvSpPr/>
            <p:nvPr/>
          </p:nvSpPr>
          <p:spPr>
            <a:xfrm>
              <a:off x="3181680" y="4331880"/>
              <a:ext cx="853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6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组合 2"/>
          <p:cNvGrpSpPr/>
          <p:nvPr/>
        </p:nvGrpSpPr>
        <p:grpSpPr>
          <a:xfrm>
            <a:off x="36360" y="101520"/>
            <a:ext cx="4608720" cy="525600"/>
            <a:chOff x="36360" y="101520"/>
            <a:chExt cx="4608720" cy="525600"/>
          </a:xfrm>
        </p:grpSpPr>
        <p:pic>
          <p:nvPicPr>
            <p:cNvPr id="1081" name="圆角矩形 9" descr=""/>
            <p:cNvPicPr/>
            <p:nvPr/>
          </p:nvPicPr>
          <p:blipFill>
            <a:blip r:embed="rId4"/>
            <a:stretch/>
          </p:blipFill>
          <p:spPr>
            <a:xfrm>
              <a:off x="262080" y="101520"/>
              <a:ext cx="43830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2" name="组合 4"/>
            <p:cNvGrpSpPr/>
            <p:nvPr/>
          </p:nvGrpSpPr>
          <p:grpSpPr>
            <a:xfrm>
              <a:off x="36360" y="197280"/>
              <a:ext cx="615240" cy="272160"/>
              <a:chOff x="36360" y="197280"/>
              <a:chExt cx="615240" cy="272160"/>
            </a:xfrm>
          </p:grpSpPr>
          <p:sp>
            <p:nvSpPr>
              <p:cNvPr id="1083" name="椭圆 11"/>
              <p:cNvSpPr/>
              <p:nvPr/>
            </p:nvSpPr>
            <p:spPr>
              <a:xfrm rot="16200000">
                <a:off x="308520" y="351360"/>
                <a:ext cx="103680" cy="13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417600" y="291240"/>
                <a:ext cx="234000" cy="8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椭圆 13"/>
              <p:cNvSpPr/>
              <p:nvPr/>
            </p:nvSpPr>
            <p:spPr>
              <a:xfrm rot="16200000">
                <a:off x="308520" y="218160"/>
                <a:ext cx="103680" cy="13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6" name="椭圆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417600" y="208080"/>
                <a:ext cx="234000" cy="8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36360" y="30312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16" descr=""/>
              <p:cNvPicPr/>
              <p:nvPr/>
            </p:nvPicPr>
            <p:blipFill>
              <a:blip r:embed="rId8"/>
              <a:stretch/>
            </p:blipFill>
            <p:spPr>
              <a:xfrm>
                <a:off x="36360" y="28224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17" descr=""/>
              <p:cNvPicPr/>
              <p:nvPr/>
            </p:nvPicPr>
            <p:blipFill>
              <a:blip r:embed="rId9"/>
              <a:stretch/>
            </p:blipFill>
            <p:spPr>
              <a:xfrm>
                <a:off x="36360" y="21780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19728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AutoShape 27"/>
          <p:cNvSpPr/>
          <p:nvPr/>
        </p:nvSpPr>
        <p:spPr>
          <a:xfrm>
            <a:off x="1787400" y="1249200"/>
            <a:ext cx="3311640" cy="891000"/>
          </a:xfrm>
          <a:prstGeom prst="wedgeRoundRectCallout">
            <a:avLst>
              <a:gd name="adj1" fmla="val -58648"/>
              <a:gd name="adj2" fmla="val 3372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我们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节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下课，现在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AutoShape 27"/>
          <p:cNvSpPr/>
          <p:nvPr/>
        </p:nvSpPr>
        <p:spPr>
          <a:xfrm>
            <a:off x="4149720" y="2658960"/>
            <a:ext cx="3108240" cy="936720"/>
          </a:xfrm>
          <a:prstGeom prst="wedgeRoundRectCallout">
            <a:avLst>
              <a:gd name="adj1" fmla="val 62351"/>
              <a:gd name="adj2" fmla="val 3796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离下课还有多长时间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你是怎么想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AutoShape 27"/>
          <p:cNvSpPr/>
          <p:nvPr/>
        </p:nvSpPr>
        <p:spPr>
          <a:xfrm>
            <a:off x="2362320" y="4075200"/>
            <a:ext cx="3727440" cy="891000"/>
          </a:xfrm>
          <a:prstGeom prst="wedgeRoundRectCallout">
            <a:avLst>
              <a:gd name="adj1" fmla="val -56555"/>
              <a:gd name="adj2" fmla="val 2806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离下课还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分钟，我是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算出来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图片 3" descr="_4`F[E$PX4I}_~SSZVJ7V4J"/>
          <p:cNvPicPr/>
          <p:nvPr/>
        </p:nvPicPr>
        <p:blipFill>
          <a:blip r:embed="rId1"/>
          <a:stretch/>
        </p:blipFill>
        <p:spPr>
          <a:xfrm flipH="1">
            <a:off x="777600" y="3930480"/>
            <a:ext cx="1190520" cy="1806840"/>
          </a:xfrm>
          <a:prstGeom prst="rect">
            <a:avLst/>
          </a:prstGeom>
          <a:ln w="0">
            <a:noFill/>
          </a:ln>
        </p:spPr>
      </p:pic>
      <p:pic>
        <p:nvPicPr>
          <p:cNvPr id="1095" name="图片 1" descr="]@P`{@U$K{A7A$9804YYMFT"/>
          <p:cNvPicPr/>
          <p:nvPr/>
        </p:nvPicPr>
        <p:blipFill>
          <a:blip r:embed="rId2"/>
          <a:stretch/>
        </p:blipFill>
        <p:spPr>
          <a:xfrm>
            <a:off x="103320" y="757080"/>
            <a:ext cx="1496880" cy="1901880"/>
          </a:xfrm>
          <a:prstGeom prst="rect">
            <a:avLst/>
          </a:prstGeom>
          <a:ln w="0">
            <a:noFill/>
          </a:ln>
        </p:spPr>
      </p:pic>
      <p:pic>
        <p:nvPicPr>
          <p:cNvPr id="1096" name="图片 4" descr="6)5][}VZ%@FXJ)FA]TI76$O"/>
          <p:cNvPicPr/>
          <p:nvPr/>
        </p:nvPicPr>
        <p:blipFill>
          <a:blip r:embed="rId3"/>
          <a:stretch/>
        </p:blipFill>
        <p:spPr>
          <a:xfrm>
            <a:off x="7792920" y="2803680"/>
            <a:ext cx="1303560" cy="1390320"/>
          </a:xfrm>
          <a:prstGeom prst="rect">
            <a:avLst/>
          </a:prstGeom>
          <a:ln w="0">
            <a:noFill/>
          </a:ln>
        </p:spPr>
      </p:pic>
      <p:grpSp>
        <p:nvGrpSpPr>
          <p:cNvPr id="1097" name="组合 2"/>
          <p:cNvGrpSpPr/>
          <p:nvPr/>
        </p:nvGrpSpPr>
        <p:grpSpPr>
          <a:xfrm>
            <a:off x="36360" y="101520"/>
            <a:ext cx="4608720" cy="525600"/>
            <a:chOff x="36360" y="101520"/>
            <a:chExt cx="4608720" cy="525600"/>
          </a:xfrm>
        </p:grpSpPr>
        <p:pic>
          <p:nvPicPr>
            <p:cNvPr id="1098" name="圆角矩形 8" descr=""/>
            <p:cNvPicPr/>
            <p:nvPr/>
          </p:nvPicPr>
          <p:blipFill>
            <a:blip r:embed="rId4"/>
            <a:stretch/>
          </p:blipFill>
          <p:spPr>
            <a:xfrm>
              <a:off x="262080" y="101520"/>
              <a:ext cx="43830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9" name="组合 4"/>
            <p:cNvGrpSpPr/>
            <p:nvPr/>
          </p:nvGrpSpPr>
          <p:grpSpPr>
            <a:xfrm>
              <a:off x="36360" y="197280"/>
              <a:ext cx="615240" cy="272160"/>
              <a:chOff x="36360" y="197280"/>
              <a:chExt cx="615240" cy="272160"/>
            </a:xfrm>
          </p:grpSpPr>
          <p:sp>
            <p:nvSpPr>
              <p:cNvPr id="1100" name="椭圆 10"/>
              <p:cNvSpPr/>
              <p:nvPr/>
            </p:nvSpPr>
            <p:spPr>
              <a:xfrm rot="16200000">
                <a:off x="308520" y="351360"/>
                <a:ext cx="103680" cy="13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1" name="椭圆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417600" y="291240"/>
                <a:ext cx="234000" cy="8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椭圆 12"/>
              <p:cNvSpPr/>
              <p:nvPr/>
            </p:nvSpPr>
            <p:spPr>
              <a:xfrm rot="16200000">
                <a:off x="308520" y="218160"/>
                <a:ext cx="103680" cy="13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3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417600" y="208080"/>
                <a:ext cx="234000" cy="8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36360" y="30312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36360" y="28224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36360" y="21780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7" name="圆角矩形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19728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AutoShape 27"/>
          <p:cNvSpPr/>
          <p:nvPr/>
        </p:nvSpPr>
        <p:spPr>
          <a:xfrm>
            <a:off x="1362240" y="1430280"/>
            <a:ext cx="2793960" cy="891000"/>
          </a:xfrm>
          <a:prstGeom prst="wedgeRoundRectCallout">
            <a:avLst>
              <a:gd name="adj1" fmla="val -59583"/>
              <a:gd name="adj2" fmla="val 1704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现在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分，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下课还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分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AutoShape 27"/>
          <p:cNvSpPr/>
          <p:nvPr/>
        </p:nvSpPr>
        <p:spPr>
          <a:xfrm>
            <a:off x="2513160" y="4322880"/>
            <a:ext cx="3887640" cy="891000"/>
          </a:xfrm>
          <a:prstGeom prst="wedgeRoundRectCallout">
            <a:avLst>
              <a:gd name="adj1" fmla="val -56287"/>
              <a:gd name="adj2" fmla="val 2806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节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分下课，我是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分开始往后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分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AutoShape 27"/>
          <p:cNvSpPr/>
          <p:nvPr/>
        </p:nvSpPr>
        <p:spPr>
          <a:xfrm>
            <a:off x="3897360" y="2502000"/>
            <a:ext cx="3422520" cy="936360"/>
          </a:xfrm>
          <a:prstGeom prst="wedgeRoundRectCallout">
            <a:avLst>
              <a:gd name="adj1" fmla="val 63888"/>
              <a:gd name="adj2" fmla="val 3084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节课几时下课？说一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怎么想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图片 4" descr="6)5][}VZ%@FXJ)FA]TI76$O"/>
          <p:cNvPicPr/>
          <p:nvPr/>
        </p:nvPicPr>
        <p:blipFill>
          <a:blip r:embed="rId1"/>
          <a:stretch/>
        </p:blipFill>
        <p:spPr>
          <a:xfrm>
            <a:off x="7783560" y="2502000"/>
            <a:ext cx="1303200" cy="1388880"/>
          </a:xfrm>
          <a:prstGeom prst="rect">
            <a:avLst/>
          </a:prstGeom>
          <a:ln w="0">
            <a:noFill/>
          </a:ln>
        </p:spPr>
      </p:pic>
      <p:pic>
        <p:nvPicPr>
          <p:cNvPr id="1112" name="图片 1" descr="]@P`{@U$K{A7A$9804YYMFT"/>
          <p:cNvPicPr/>
          <p:nvPr/>
        </p:nvPicPr>
        <p:blipFill>
          <a:blip r:embed="rId2"/>
          <a:stretch/>
        </p:blipFill>
        <p:spPr>
          <a:xfrm>
            <a:off x="117360" y="903240"/>
            <a:ext cx="903240" cy="1147680"/>
          </a:xfrm>
          <a:prstGeom prst="rect">
            <a:avLst/>
          </a:prstGeom>
          <a:ln w="0">
            <a:noFill/>
          </a:ln>
        </p:spPr>
      </p:pic>
      <p:pic>
        <p:nvPicPr>
          <p:cNvPr id="1113" name="图片 3" descr="_4`F[E$PX4I}_~SSZVJ7V4J"/>
          <p:cNvPicPr/>
          <p:nvPr/>
        </p:nvPicPr>
        <p:blipFill>
          <a:blip r:embed="rId3"/>
          <a:stretch/>
        </p:blipFill>
        <p:spPr>
          <a:xfrm flipH="1">
            <a:off x="1238400" y="4322880"/>
            <a:ext cx="947520" cy="1436400"/>
          </a:xfrm>
          <a:prstGeom prst="rect">
            <a:avLst/>
          </a:prstGeom>
          <a:ln w="0">
            <a:noFill/>
          </a:ln>
        </p:spPr>
      </p:pic>
      <p:grpSp>
        <p:nvGrpSpPr>
          <p:cNvPr id="1114" name="组合 2"/>
          <p:cNvGrpSpPr/>
          <p:nvPr/>
        </p:nvGrpSpPr>
        <p:grpSpPr>
          <a:xfrm>
            <a:off x="57240" y="117360"/>
            <a:ext cx="4608360" cy="525600"/>
            <a:chOff x="57240" y="117360"/>
            <a:chExt cx="4608360" cy="525600"/>
          </a:xfrm>
        </p:grpSpPr>
        <p:pic>
          <p:nvPicPr>
            <p:cNvPr id="1115" name="圆角矩形 8" descr=""/>
            <p:cNvPicPr/>
            <p:nvPr/>
          </p:nvPicPr>
          <p:blipFill>
            <a:blip r:embed="rId4"/>
            <a:stretch/>
          </p:blipFill>
          <p:spPr>
            <a:xfrm>
              <a:off x="282960" y="117360"/>
              <a:ext cx="43826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6" name="组合 4"/>
            <p:cNvGrpSpPr/>
            <p:nvPr/>
          </p:nvGrpSpPr>
          <p:grpSpPr>
            <a:xfrm>
              <a:off x="57240" y="213120"/>
              <a:ext cx="615240" cy="272160"/>
              <a:chOff x="57240" y="213120"/>
              <a:chExt cx="615240" cy="272160"/>
            </a:xfrm>
          </p:grpSpPr>
          <p:sp>
            <p:nvSpPr>
              <p:cNvPr id="1117" name="椭圆 10"/>
              <p:cNvSpPr/>
              <p:nvPr/>
            </p:nvSpPr>
            <p:spPr>
              <a:xfrm rot="16200000">
                <a:off x="329400" y="367200"/>
                <a:ext cx="103680" cy="13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8" name="椭圆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438480" y="307080"/>
                <a:ext cx="234000" cy="8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9" name="椭圆 12"/>
              <p:cNvSpPr/>
              <p:nvPr/>
            </p:nvSpPr>
            <p:spPr>
              <a:xfrm rot="16200000">
                <a:off x="329400" y="234000"/>
                <a:ext cx="103680" cy="13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0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438480" y="223920"/>
                <a:ext cx="234000" cy="8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1" name="圆角矩形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57240" y="31896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2" name="圆角矩形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57240" y="29808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3" name="圆角矩形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57240" y="23364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4" name="圆角矩形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57240" y="21312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AutoShape 27"/>
          <p:cNvSpPr/>
          <p:nvPr/>
        </p:nvSpPr>
        <p:spPr>
          <a:xfrm>
            <a:off x="4483080" y="814320"/>
            <a:ext cx="2932200" cy="936720"/>
          </a:xfrm>
          <a:prstGeom prst="wedgeRoundRectCallout">
            <a:avLst>
              <a:gd name="adj1" fmla="val 61587"/>
              <a:gd name="adj2" fmla="val 3593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记得我们学过哪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量单位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AutoShape 27"/>
          <p:cNvSpPr/>
          <p:nvPr/>
        </p:nvSpPr>
        <p:spPr>
          <a:xfrm>
            <a:off x="2112840" y="2111400"/>
            <a:ext cx="3583080" cy="496440"/>
          </a:xfrm>
          <a:prstGeom prst="wedgeRoundRectCallout">
            <a:avLst>
              <a:gd name="adj1" fmla="val -57078"/>
              <a:gd name="adj2" fmla="val 9673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千米、米、分米、厘米、毫米、吨、千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34"/>
          <p:cNvSpPr/>
          <p:nvPr/>
        </p:nvSpPr>
        <p:spPr>
          <a:xfrm>
            <a:off x="1897200" y="3711600"/>
            <a:ext cx="61927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北京到上海的高速铁路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31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一桶色拉油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一个鸭蛋约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一部手机大约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图片 1" descr="6)5][}VZ%@FXJ)FA]TI76$O"/>
          <p:cNvPicPr/>
          <p:nvPr/>
        </p:nvPicPr>
        <p:blipFill>
          <a:blip r:embed="rId1"/>
          <a:stretch/>
        </p:blipFill>
        <p:spPr>
          <a:xfrm>
            <a:off x="7854840" y="1090440"/>
            <a:ext cx="1189080" cy="1268640"/>
          </a:xfrm>
          <a:prstGeom prst="rect">
            <a:avLst/>
          </a:prstGeom>
          <a:ln w="0">
            <a:noFill/>
          </a:ln>
        </p:spPr>
      </p:pic>
      <p:pic>
        <p:nvPicPr>
          <p:cNvPr id="1129" name="图片 3" descr="_4`F[E$PX4I}_~SSZVJ7V4J"/>
          <p:cNvPicPr/>
          <p:nvPr/>
        </p:nvPicPr>
        <p:blipFill>
          <a:blip r:embed="rId2"/>
          <a:stretch/>
        </p:blipFill>
        <p:spPr>
          <a:xfrm flipH="1">
            <a:off x="441000" y="1657440"/>
            <a:ext cx="1190520" cy="1806480"/>
          </a:xfrm>
          <a:prstGeom prst="rect">
            <a:avLst/>
          </a:prstGeom>
          <a:ln w="0">
            <a:noFill/>
          </a:ln>
        </p:spPr>
      </p:pic>
      <p:grpSp>
        <p:nvGrpSpPr>
          <p:cNvPr id="1130" name="组合 2"/>
          <p:cNvGrpSpPr/>
          <p:nvPr/>
        </p:nvGrpSpPr>
        <p:grpSpPr>
          <a:xfrm>
            <a:off x="57240" y="117360"/>
            <a:ext cx="4608360" cy="525600"/>
            <a:chOff x="57240" y="117360"/>
            <a:chExt cx="4608360" cy="525600"/>
          </a:xfrm>
        </p:grpSpPr>
        <p:pic>
          <p:nvPicPr>
            <p:cNvPr id="1131" name="圆角矩形 6" descr=""/>
            <p:cNvPicPr/>
            <p:nvPr/>
          </p:nvPicPr>
          <p:blipFill>
            <a:blip r:embed="rId3"/>
            <a:stretch/>
          </p:blipFill>
          <p:spPr>
            <a:xfrm>
              <a:off x="282960" y="117360"/>
              <a:ext cx="43826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2" name="组合 4"/>
            <p:cNvGrpSpPr/>
            <p:nvPr/>
          </p:nvGrpSpPr>
          <p:grpSpPr>
            <a:xfrm>
              <a:off x="57240" y="213120"/>
              <a:ext cx="615240" cy="272160"/>
              <a:chOff x="57240" y="213120"/>
              <a:chExt cx="615240" cy="272160"/>
            </a:xfrm>
          </p:grpSpPr>
          <p:sp>
            <p:nvSpPr>
              <p:cNvPr id="1133" name="椭圆 9"/>
              <p:cNvSpPr/>
              <p:nvPr/>
            </p:nvSpPr>
            <p:spPr>
              <a:xfrm rot="16200000">
                <a:off x="329400" y="367200"/>
                <a:ext cx="103680" cy="13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438480" y="307080"/>
                <a:ext cx="234000" cy="8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椭圆 11"/>
              <p:cNvSpPr/>
              <p:nvPr/>
            </p:nvSpPr>
            <p:spPr>
              <a:xfrm rot="16200000">
                <a:off x="329400" y="234000"/>
                <a:ext cx="103680" cy="13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6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438480" y="223920"/>
                <a:ext cx="234000" cy="8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7" name="圆角矩形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7240" y="31896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8" name="圆角矩形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57240" y="29808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9" name="圆角矩形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57240" y="23364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0" name="圆角矩形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57240" y="21312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1" name="文本框 1"/>
          <p:cNvSpPr/>
          <p:nvPr/>
        </p:nvSpPr>
        <p:spPr>
          <a:xfrm>
            <a:off x="6191280" y="3787920"/>
            <a:ext cx="7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千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文本框 2"/>
          <p:cNvSpPr/>
          <p:nvPr/>
        </p:nvSpPr>
        <p:spPr>
          <a:xfrm>
            <a:off x="4483080" y="4294080"/>
            <a:ext cx="7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千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文本框 3"/>
          <p:cNvSpPr/>
          <p:nvPr/>
        </p:nvSpPr>
        <p:spPr>
          <a:xfrm>
            <a:off x="4630680" y="4807080"/>
            <a:ext cx="7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文本框 4"/>
          <p:cNvSpPr/>
          <p:nvPr/>
        </p:nvSpPr>
        <p:spPr>
          <a:xfrm>
            <a:off x="4778280" y="5324400"/>
            <a:ext cx="7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AutoShape 27"/>
          <p:cNvSpPr/>
          <p:nvPr/>
        </p:nvSpPr>
        <p:spPr>
          <a:xfrm>
            <a:off x="2514600" y="988920"/>
            <a:ext cx="4681440" cy="936720"/>
          </a:xfrm>
          <a:prstGeom prst="wedgeRoundRectCallout">
            <a:avLst>
              <a:gd name="adj1" fmla="val 55324"/>
              <a:gd name="adj2" fmla="val 3491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有哪些地方用到吨或千米这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大的计量单位？请你举例说一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AutoShape 27"/>
          <p:cNvSpPr/>
          <p:nvPr/>
        </p:nvSpPr>
        <p:spPr>
          <a:xfrm>
            <a:off x="1857240" y="2689200"/>
            <a:ext cx="3019680" cy="891000"/>
          </a:xfrm>
          <a:prstGeom prst="wedgeRoundRectCallout">
            <a:avLst>
              <a:gd name="adj1" fmla="val -58412"/>
              <a:gd name="adj2" fmla="val 3178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一部电梯载质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大约乘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27"/>
          <p:cNvSpPr/>
          <p:nvPr/>
        </p:nvSpPr>
        <p:spPr>
          <a:xfrm>
            <a:off x="5084640" y="4245120"/>
            <a:ext cx="1555920" cy="496440"/>
          </a:xfrm>
          <a:prstGeom prst="wedgeRoundRectCallout">
            <a:avLst>
              <a:gd name="adj1" fmla="val 63254"/>
              <a:gd name="adj2" fmla="val 2006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图片 1" descr="6)5][}VZ%@FXJ)FA]TI76$O"/>
          <p:cNvPicPr/>
          <p:nvPr/>
        </p:nvPicPr>
        <p:blipFill>
          <a:blip r:embed="rId1"/>
          <a:stretch/>
        </p:blipFill>
        <p:spPr>
          <a:xfrm>
            <a:off x="7575480" y="1120680"/>
            <a:ext cx="1190520" cy="1268640"/>
          </a:xfrm>
          <a:prstGeom prst="rect">
            <a:avLst/>
          </a:prstGeom>
          <a:ln w="0">
            <a:noFill/>
          </a:ln>
        </p:spPr>
      </p:pic>
      <p:pic>
        <p:nvPicPr>
          <p:cNvPr id="1149" name="图片 3" descr="_4`F[E$PX4I}_~SSZVJ7V4J"/>
          <p:cNvPicPr/>
          <p:nvPr/>
        </p:nvPicPr>
        <p:blipFill>
          <a:blip r:embed="rId2"/>
          <a:stretch/>
        </p:blipFill>
        <p:spPr>
          <a:xfrm>
            <a:off x="7007400" y="3841920"/>
            <a:ext cx="1190520" cy="1804680"/>
          </a:xfrm>
          <a:prstGeom prst="rect">
            <a:avLst/>
          </a:prstGeom>
          <a:ln w="0">
            <a:noFill/>
          </a:ln>
        </p:spPr>
      </p:pic>
      <p:pic>
        <p:nvPicPr>
          <p:cNvPr id="1150" name="图片 4" descr="]@P`{@U$K{A7A$9804YYMFT"/>
          <p:cNvPicPr/>
          <p:nvPr/>
        </p:nvPicPr>
        <p:blipFill>
          <a:blip r:embed="rId3"/>
          <a:stretch/>
        </p:blipFill>
        <p:spPr>
          <a:xfrm>
            <a:off x="179280" y="2855880"/>
            <a:ext cx="1192320" cy="1513080"/>
          </a:xfrm>
          <a:prstGeom prst="rect">
            <a:avLst/>
          </a:prstGeom>
          <a:ln w="0">
            <a:noFill/>
          </a:ln>
        </p:spPr>
      </p:pic>
      <p:grpSp>
        <p:nvGrpSpPr>
          <p:cNvPr id="1151" name="组合 2"/>
          <p:cNvGrpSpPr/>
          <p:nvPr/>
        </p:nvGrpSpPr>
        <p:grpSpPr>
          <a:xfrm>
            <a:off x="57240" y="117360"/>
            <a:ext cx="4608360" cy="525600"/>
            <a:chOff x="57240" y="117360"/>
            <a:chExt cx="4608360" cy="525600"/>
          </a:xfrm>
        </p:grpSpPr>
        <p:pic>
          <p:nvPicPr>
            <p:cNvPr id="1152" name="圆角矩形 8" descr=""/>
            <p:cNvPicPr/>
            <p:nvPr/>
          </p:nvPicPr>
          <p:blipFill>
            <a:blip r:embed="rId4"/>
            <a:stretch/>
          </p:blipFill>
          <p:spPr>
            <a:xfrm>
              <a:off x="282960" y="117360"/>
              <a:ext cx="43826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3" name="组合 4"/>
            <p:cNvGrpSpPr/>
            <p:nvPr/>
          </p:nvGrpSpPr>
          <p:grpSpPr>
            <a:xfrm>
              <a:off x="57240" y="213120"/>
              <a:ext cx="615240" cy="272160"/>
              <a:chOff x="57240" y="213120"/>
              <a:chExt cx="615240" cy="272160"/>
            </a:xfrm>
          </p:grpSpPr>
          <p:sp>
            <p:nvSpPr>
              <p:cNvPr id="1154" name="椭圆 10"/>
              <p:cNvSpPr/>
              <p:nvPr/>
            </p:nvSpPr>
            <p:spPr>
              <a:xfrm rot="16200000">
                <a:off x="329400" y="367200"/>
                <a:ext cx="103680" cy="13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5" name="椭圆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438480" y="307080"/>
                <a:ext cx="234000" cy="8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6" name="椭圆 12"/>
              <p:cNvSpPr/>
              <p:nvPr/>
            </p:nvSpPr>
            <p:spPr>
              <a:xfrm rot="16200000">
                <a:off x="329400" y="234000"/>
                <a:ext cx="103680" cy="13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7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438480" y="223920"/>
                <a:ext cx="234000" cy="8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8" name="圆角矩形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57240" y="31896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9" name="圆角矩形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57240" y="29808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0" name="圆角矩形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57240" y="23364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1" name="圆角矩形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57240" y="21312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AutoShape 27"/>
          <p:cNvSpPr/>
          <p:nvPr/>
        </p:nvSpPr>
        <p:spPr>
          <a:xfrm>
            <a:off x="6804000" y="981000"/>
            <a:ext cx="1663560" cy="891000"/>
          </a:xfrm>
          <a:prstGeom prst="wedgeRoundRectCallout">
            <a:avLst>
              <a:gd name="adj1" fmla="val 25569"/>
              <a:gd name="adj2" fmla="val 7136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咱们互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27"/>
          <p:cNvSpPr/>
          <p:nvPr/>
        </p:nvSpPr>
        <p:spPr>
          <a:xfrm>
            <a:off x="3765600" y="987480"/>
            <a:ext cx="2448000" cy="891000"/>
          </a:xfrm>
          <a:prstGeom prst="wedgeRoundRectCallout">
            <a:avLst>
              <a:gd name="adj1" fmla="val -59583"/>
              <a:gd name="adj2" fmla="val -670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知道这些计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位之间的关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Group 54"/>
          <p:cNvGrpSpPr/>
          <p:nvPr/>
        </p:nvGrpSpPr>
        <p:grpSpPr>
          <a:xfrm>
            <a:off x="1689120" y="3165480"/>
            <a:ext cx="7056360" cy="3339000"/>
            <a:chOff x="1689120" y="3165480"/>
            <a:chExt cx="7056360" cy="3339000"/>
          </a:xfrm>
        </p:grpSpPr>
        <p:sp>
          <p:nvSpPr>
            <p:cNvPr id="1165" name="Rectangle 39"/>
            <p:cNvSpPr/>
            <p:nvPr/>
          </p:nvSpPr>
          <p:spPr>
            <a:xfrm>
              <a:off x="1760400" y="4264200"/>
              <a:ext cx="6985080" cy="22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千米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       ）米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厘米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       ）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0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厘米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       ）分米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       ）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000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克＝（    ）吨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20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       ）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AutoShape 27"/>
            <p:cNvSpPr/>
            <p:nvPr/>
          </p:nvSpPr>
          <p:spPr>
            <a:xfrm>
              <a:off x="1689120" y="3165480"/>
              <a:ext cx="1433520" cy="528480"/>
            </a:xfrm>
            <a:prstGeom prst="wedgeRoundRectCallout">
              <a:avLst>
                <a:gd name="adj1" fmla="val -63287"/>
                <a:gd name="adj2" fmla="val 352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填一填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7" name="图片 3" descr="_4`F[E$PX4I}_~SSZVJ7V4J"/>
          <p:cNvPicPr/>
          <p:nvPr/>
        </p:nvPicPr>
        <p:blipFill>
          <a:blip r:embed="rId1"/>
          <a:stretch/>
        </p:blipFill>
        <p:spPr>
          <a:xfrm flipH="1">
            <a:off x="201600" y="2711520"/>
            <a:ext cx="1192320" cy="1805040"/>
          </a:xfrm>
          <a:prstGeom prst="rect">
            <a:avLst/>
          </a:prstGeom>
          <a:ln w="0">
            <a:noFill/>
          </a:ln>
        </p:spPr>
      </p:pic>
      <p:pic>
        <p:nvPicPr>
          <p:cNvPr id="1168" name="图片 1" descr="6)5][}VZ%@FXJ)FA]TI76$O"/>
          <p:cNvPicPr/>
          <p:nvPr/>
        </p:nvPicPr>
        <p:blipFill>
          <a:blip r:embed="rId2"/>
          <a:stretch/>
        </p:blipFill>
        <p:spPr>
          <a:xfrm flipH="1">
            <a:off x="7543440" y="2259000"/>
            <a:ext cx="1189080" cy="1268280"/>
          </a:xfrm>
          <a:prstGeom prst="rect">
            <a:avLst/>
          </a:prstGeom>
          <a:ln w="0">
            <a:noFill/>
          </a:ln>
        </p:spPr>
      </p:pic>
      <p:pic>
        <p:nvPicPr>
          <p:cNvPr id="1169" name="图片 4" descr="]@P`{@U$K{A7A$9804YYMFT"/>
          <p:cNvPicPr/>
          <p:nvPr/>
        </p:nvPicPr>
        <p:blipFill>
          <a:blip r:embed="rId3"/>
          <a:stretch/>
        </p:blipFill>
        <p:spPr>
          <a:xfrm>
            <a:off x="2054160" y="987480"/>
            <a:ext cx="119052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170" name="组合 2"/>
          <p:cNvGrpSpPr/>
          <p:nvPr/>
        </p:nvGrpSpPr>
        <p:grpSpPr>
          <a:xfrm>
            <a:off x="57240" y="117360"/>
            <a:ext cx="4608360" cy="525600"/>
            <a:chOff x="57240" y="117360"/>
            <a:chExt cx="4608360" cy="525600"/>
          </a:xfrm>
        </p:grpSpPr>
        <p:pic>
          <p:nvPicPr>
            <p:cNvPr id="1171" name="圆角矩形 8" descr=""/>
            <p:cNvPicPr/>
            <p:nvPr/>
          </p:nvPicPr>
          <p:blipFill>
            <a:blip r:embed="rId4"/>
            <a:stretch/>
          </p:blipFill>
          <p:spPr>
            <a:xfrm>
              <a:off x="282960" y="117360"/>
              <a:ext cx="43826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2" name="组合 4"/>
            <p:cNvGrpSpPr/>
            <p:nvPr/>
          </p:nvGrpSpPr>
          <p:grpSpPr>
            <a:xfrm>
              <a:off x="57240" y="213120"/>
              <a:ext cx="615240" cy="272160"/>
              <a:chOff x="57240" y="213120"/>
              <a:chExt cx="615240" cy="272160"/>
            </a:xfrm>
          </p:grpSpPr>
          <p:sp>
            <p:nvSpPr>
              <p:cNvPr id="1173" name="椭圆 10"/>
              <p:cNvSpPr/>
              <p:nvPr/>
            </p:nvSpPr>
            <p:spPr>
              <a:xfrm rot="16200000">
                <a:off x="329400" y="367200"/>
                <a:ext cx="103680" cy="13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4" name="椭圆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438480" y="307080"/>
                <a:ext cx="234000" cy="8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5" name="椭圆 12"/>
              <p:cNvSpPr/>
              <p:nvPr/>
            </p:nvSpPr>
            <p:spPr>
              <a:xfrm rot="16200000">
                <a:off x="329400" y="234000"/>
                <a:ext cx="103680" cy="13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6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438480" y="223920"/>
                <a:ext cx="234000" cy="8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7" name="圆角矩形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57240" y="31896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8" name="圆角矩形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57240" y="29808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9" name="圆角矩形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57240" y="23364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0" name="圆角矩形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57240" y="21312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81" name="文本框 1"/>
          <p:cNvSpPr/>
          <p:nvPr/>
        </p:nvSpPr>
        <p:spPr>
          <a:xfrm>
            <a:off x="3416400" y="4332240"/>
            <a:ext cx="7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文本框 2"/>
          <p:cNvSpPr/>
          <p:nvPr/>
        </p:nvSpPr>
        <p:spPr>
          <a:xfrm>
            <a:off x="6889680" y="4332240"/>
            <a:ext cx="7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文本框 3"/>
          <p:cNvSpPr/>
          <p:nvPr/>
        </p:nvSpPr>
        <p:spPr>
          <a:xfrm>
            <a:off x="3514680" y="4826160"/>
            <a:ext cx="7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文本框 4"/>
          <p:cNvSpPr/>
          <p:nvPr/>
        </p:nvSpPr>
        <p:spPr>
          <a:xfrm>
            <a:off x="3514680" y="5375160"/>
            <a:ext cx="7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文本框 5"/>
          <p:cNvSpPr/>
          <p:nvPr/>
        </p:nvSpPr>
        <p:spPr>
          <a:xfrm>
            <a:off x="6804000" y="4826160"/>
            <a:ext cx="7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文本框 6"/>
          <p:cNvSpPr/>
          <p:nvPr/>
        </p:nvSpPr>
        <p:spPr>
          <a:xfrm>
            <a:off x="6889680" y="5375160"/>
            <a:ext cx="7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Picture 18" descr=""/>
          <p:cNvPicPr/>
          <p:nvPr/>
        </p:nvPicPr>
        <p:blipFill>
          <a:blip r:embed="rId1"/>
          <a:stretch/>
        </p:blipFill>
        <p:spPr>
          <a:xfrm>
            <a:off x="1158840" y="952560"/>
            <a:ext cx="2535120" cy="201924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19" descr="09"/>
          <p:cNvPicPr/>
          <p:nvPr/>
        </p:nvPicPr>
        <p:blipFill>
          <a:blip r:embed="rId2"/>
          <a:stretch/>
        </p:blipFill>
        <p:spPr>
          <a:xfrm>
            <a:off x="4746600" y="793800"/>
            <a:ext cx="2882880" cy="2338200"/>
          </a:xfrm>
          <a:prstGeom prst="rect">
            <a:avLst/>
          </a:prstGeom>
          <a:ln w="0">
            <a:noFill/>
          </a:ln>
        </p:spPr>
      </p:pic>
      <p:sp>
        <p:nvSpPr>
          <p:cNvPr id="1189" name="Text Box 10"/>
          <p:cNvSpPr/>
          <p:nvPr/>
        </p:nvSpPr>
        <p:spPr>
          <a:xfrm>
            <a:off x="825480" y="32004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（  ）里填上合适的单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0" name="图片 1" descr=""/>
          <p:cNvPicPr/>
          <p:nvPr/>
        </p:nvPicPr>
        <p:blipFill>
          <a:blip r:embed="rId3"/>
          <a:stretch/>
        </p:blipFill>
        <p:spPr>
          <a:xfrm>
            <a:off x="853920" y="3843360"/>
            <a:ext cx="7436160" cy="1308240"/>
          </a:xfrm>
          <a:prstGeom prst="rect">
            <a:avLst/>
          </a:prstGeom>
          <a:ln w="0">
            <a:noFill/>
          </a:ln>
        </p:spPr>
      </p:pic>
      <p:sp>
        <p:nvSpPr>
          <p:cNvPr id="1191" name="Rectangle 14"/>
          <p:cNvSpPr/>
          <p:nvPr/>
        </p:nvSpPr>
        <p:spPr>
          <a:xfrm>
            <a:off x="673200" y="540396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小时飞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）    载质量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）      机身全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15"/>
          <p:cNvSpPr/>
          <p:nvPr/>
        </p:nvSpPr>
        <p:spPr>
          <a:xfrm>
            <a:off x="2452680" y="54021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16"/>
          <p:cNvSpPr/>
          <p:nvPr/>
        </p:nvSpPr>
        <p:spPr>
          <a:xfrm>
            <a:off x="5030640" y="54021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a2906"/>
                </a:solidFill>
                <a:latin typeface="楷体_GB2312"/>
                <a:ea typeface="楷体_GB2312"/>
              </a:rPr>
              <a:t>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17"/>
          <p:cNvSpPr/>
          <p:nvPr/>
        </p:nvSpPr>
        <p:spPr>
          <a:xfrm>
            <a:off x="7561440" y="54021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a2906"/>
                </a:solidFill>
                <a:latin typeface="楷体_GB2312"/>
                <a:ea typeface="楷体_GB2312"/>
              </a:rPr>
              <a:t>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组合 2"/>
          <p:cNvGrpSpPr/>
          <p:nvPr/>
        </p:nvGrpSpPr>
        <p:grpSpPr>
          <a:xfrm>
            <a:off x="57240" y="117360"/>
            <a:ext cx="4608360" cy="525600"/>
            <a:chOff x="57240" y="117360"/>
            <a:chExt cx="4608360" cy="525600"/>
          </a:xfrm>
        </p:grpSpPr>
        <p:pic>
          <p:nvPicPr>
            <p:cNvPr id="1196" name="圆角矩形 8" descr=""/>
            <p:cNvPicPr/>
            <p:nvPr/>
          </p:nvPicPr>
          <p:blipFill>
            <a:blip r:embed="rId4"/>
            <a:stretch/>
          </p:blipFill>
          <p:spPr>
            <a:xfrm>
              <a:off x="282960" y="117360"/>
              <a:ext cx="43826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7" name="组合 4"/>
            <p:cNvGrpSpPr/>
            <p:nvPr/>
          </p:nvGrpSpPr>
          <p:grpSpPr>
            <a:xfrm>
              <a:off x="57240" y="213120"/>
              <a:ext cx="615240" cy="272160"/>
              <a:chOff x="57240" y="213120"/>
              <a:chExt cx="615240" cy="272160"/>
            </a:xfrm>
          </p:grpSpPr>
          <p:sp>
            <p:nvSpPr>
              <p:cNvPr id="1198" name="椭圆 10"/>
              <p:cNvSpPr/>
              <p:nvPr/>
            </p:nvSpPr>
            <p:spPr>
              <a:xfrm rot="16200000">
                <a:off x="329400" y="367200"/>
                <a:ext cx="103680" cy="13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9" name="椭圆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438480" y="307080"/>
                <a:ext cx="234000" cy="8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0" name="椭圆 12"/>
              <p:cNvSpPr/>
              <p:nvPr/>
            </p:nvSpPr>
            <p:spPr>
              <a:xfrm rot="16200000">
                <a:off x="329400" y="234000"/>
                <a:ext cx="103680" cy="13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1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438480" y="223920"/>
                <a:ext cx="234000" cy="8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2" name="圆角矩形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57240" y="31896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3" name="圆角矩形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57240" y="29808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圆角矩形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57240" y="23364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5" name="圆角矩形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57240" y="213120"/>
                <a:ext cx="537480" cy="73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6T03:17:17Z</dcterms:created>
  <dc:creator/>
  <dc:description/>
  <dc:language>en-US</dc:language>
  <cp:lastModifiedBy>万润仪器贸易公司</cp:lastModifiedBy>
  <dcterms:modified xsi:type="dcterms:W3CDTF">2020-08-21T01:50:1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